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12.png" ContentType="image/png"/>
  <Override PartName="/ppt/media/image4.png" ContentType="image/png"/>
  <Override PartName="/ppt/media/image5.jpeg" ContentType="image/jpeg"/>
  <Override PartName="/ppt/media/image3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BC01-6D4A-428F-86A2-21E9CC02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652-24DB-461D-82B3-CE333D16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EC07-47E8-49E1-B108-9E9AAA729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1619-E677-4160-9E71-BCEBB14C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F9C5-FB71-4B80-A9FD-2F7F0960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268E-8158-45A6-B1FB-D8C96C8A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ED58-CE23-44B9-8595-F1BC6F9F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CD02-4D72-4FCC-9035-E5E866C1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0705-B662-4F6F-BF2F-33910F1B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AFA4-E6F1-4B30-B5A5-9C33E2F0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88B1-0D58-458F-BCFB-D45696A5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61F-C4D6-41B9-9646-C12AAEA5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661E-262E-407F-BDA9-B2C5EDF4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7DF2-94BA-4BB8-9194-B35F06D3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6CBF-14ED-47A5-96E2-867EA951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D796-CBEE-43B2-93EB-DF997355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7D9C-88FF-4492-8637-7961119B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0633-38DF-4BB8-A4A4-92D25EC6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305-5E48-4757-9050-4D0CFBB0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C6C-759C-4F43-9DCB-EAB58C6F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DF6-3677-4729-8C42-CC76F68E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327C-5F46-4927-9ECB-B620C757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76C4-8A13-457C-8DA9-650D4691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4FB-F24B-486E-9F1B-3D94CAF3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 flipH="1">
            <a:off x="0" y="0"/>
            <a:ext cx="838080" cy="6858000"/>
          </a:xfrm>
          <a:prstGeom prst="pie">
            <a:avLst/>
          </a:prstGeom>
          <a:solidFill>
            <a:srgbClr val="5d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rot="5400000">
            <a:off x="4495680" y="2209680"/>
            <a:ext cx="15228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5400000">
            <a:off x="4534560" y="-3189960"/>
            <a:ext cx="7452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26DE-F1BD-4C4E-AF19-3AE0DA2A9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олилиния 12"/>
          <p:cNvSpPr/>
          <p:nvPr/>
        </p:nvSpPr>
        <p:spPr>
          <a:xfrm flipH="1">
            <a:off x="-720" y="0"/>
            <a:ext cx="2438280" cy="6858000"/>
          </a:xfrm>
          <a:prstGeom prst="pie">
            <a:avLst/>
          </a:prstGeom>
          <a:solidFill>
            <a:srgbClr val="5da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3029040" cy="4038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49" name=""/>
          <p:cNvSpPr/>
          <p:nvPr/>
        </p:nvSpPr>
        <p:spPr>
          <a:xfrm rot="5400000">
            <a:off x="4395600" y="1166760"/>
            <a:ext cx="35244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4510080" y="-3138480"/>
            <a:ext cx="123840" cy="9144000"/>
          </a:xfrm>
          <a:prstGeom prst="rect">
            <a:avLst/>
          </a:prstGeom>
          <a:gradFill rotWithShape="0">
            <a:gsLst>
              <a:gs pos="0">
                <a:srgbClr val="00172f"/>
              </a:gs>
              <a:gs pos="50000">
                <a:srgbClr val="003366"/>
              </a:gs>
              <a:gs pos="100000">
                <a:srgbClr val="0017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305920" y="0"/>
            <a:ext cx="539640" cy="1362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4080" y="175248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193D-4D68-40A0-B192-EB515FA40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iencemagic.ru/?tag=mozg" TargetMode="External"/><Relationship Id="rId2" Type="http://schemas.openxmlformats.org/officeDocument/2006/relationships/hyperlink" Target="http://sciencemagic.ru/?tag=mozg" TargetMode="External"/><Relationship Id="rId3" Type="http://schemas.openxmlformats.org/officeDocument/2006/relationships/hyperlink" Target="http://sciencemagic.ru/?tag=mozg" TargetMode="External"/><Relationship Id="rId4" Type="http://schemas.openxmlformats.org/officeDocument/2006/relationships/hyperlink" Target="http://sciencemagic.ru/?tag=mozg" TargetMode="External"/><Relationship Id="rId5" Type="http://schemas.openxmlformats.org/officeDocument/2006/relationships/hyperlink" Target="http://sciencemagic.ru/?tag=mozg" TargetMode="External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24080" y="1916280"/>
            <a:ext cx="60199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Строение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тела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635280" y="425556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Окружающи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        </a:t>
            </a: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Головной моз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95280" y="2172960"/>
            <a:ext cx="52196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Головной мозг – 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главный команд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пункт организм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Всеми вашими мысля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чувствами, движени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управляет моз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3762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Лёгк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780000" y="1600200"/>
            <a:ext cx="5256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ыхание человека происх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ит при помощи лёгки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которые находятся в груд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Лёгкие похожи на губ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При выдохе они выпуск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из себя воздух и уменьшаю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ся в размере. Когда мы дел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ем вдох, лёгкие наполняю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ся воздухом и расширя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24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ердц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770280" y="1600200"/>
            <a:ext cx="512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рдце находится в груди человека. Размером оно всего с кула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рдце – неутомимый мотор, который непрерывно гонит в сосуды кровь и заставляет её обегать всё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5938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06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Желудок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–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лавное отделение «внутренней кухни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780000" y="1483920"/>
            <a:ext cx="536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Желудок находится в верх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ней части живота (под рёбр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ми) с левой стороны. Когда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него попадает пища, он рас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тяги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Чем больше пищи мы съ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даем, тем сильнее растяги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ется желуд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В желудке пища перераб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тывается, но  лишь наполо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omic Sans MS"/>
              </a:rPr>
              <a:t>в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38019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Кишечни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48000" y="1600200"/>
            <a:ext cx="5796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желудка пища отправляе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я в длинное путешестви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вилистому кишечнику. 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янется почти на 8 метров. Только после того как пищ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йдёт этот путь, она превр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ится в прозрачные раствор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оторые может впитать в себ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овь и разнести по все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ганиз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358632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Пече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24000" y="1628640"/>
            <a:ext cx="52196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Печень живёт с пр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вой стороны от желуд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ка в верхней ча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жив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Она вырабатыв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желчь, которая поступ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ет в кишечник и помог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</a:rPr>
              <a:t>ет переваривать пищу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909960" cy="3959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H="1">
            <a:off x="1835280" y="1125360"/>
            <a:ext cx="2449440" cy="187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Части те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03640" y="1989000"/>
            <a:ext cx="576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050920" y="2565360"/>
            <a:ext cx="2881440" cy="576360"/>
            <a:chOff x="2050920" y="2565360"/>
            <a:chExt cx="2881440" cy="576360"/>
          </a:xfrm>
        </p:grpSpPr>
        <p:sp>
          <p:nvSpPr>
            <p:cNvPr id="198" name=""/>
            <p:cNvSpPr/>
            <p:nvPr/>
          </p:nvSpPr>
          <p:spPr>
            <a:xfrm>
              <a:off x="320328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5600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7964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50920" y="256536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7280" y="256536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050920" y="3139920"/>
            <a:ext cx="3457440" cy="576360"/>
            <a:chOff x="2050920" y="3139920"/>
            <a:chExt cx="3457440" cy="576360"/>
          </a:xfrm>
        </p:grpSpPr>
        <p:sp>
          <p:nvSpPr>
            <p:cNvPr id="204" name=""/>
            <p:cNvSpPr/>
            <p:nvPr/>
          </p:nvSpPr>
          <p:spPr>
            <a:xfrm>
              <a:off x="205092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27280" y="313992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3200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56000" y="313992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7964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03280" y="313992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627280" y="3716280"/>
            <a:ext cx="5761080" cy="576000"/>
            <a:chOff x="2627280" y="3716280"/>
            <a:chExt cx="5761080" cy="576000"/>
          </a:xfrm>
        </p:grpSpPr>
        <p:sp>
          <p:nvSpPr>
            <p:cNvPr id="211" name=""/>
            <p:cNvSpPr/>
            <p:nvPr/>
          </p:nvSpPr>
          <p:spPr>
            <a:xfrm>
              <a:off x="262728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1200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3564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6108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8472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0836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32360" y="371628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5600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79640" y="371628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3640" y="371628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050920" y="4292640"/>
            <a:ext cx="2881440" cy="576360"/>
            <a:chOff x="2050920" y="4292640"/>
            <a:chExt cx="2881440" cy="576360"/>
          </a:xfrm>
        </p:grpSpPr>
        <p:sp>
          <p:nvSpPr>
            <p:cNvPr id="222" name=""/>
            <p:cNvSpPr/>
            <p:nvPr/>
          </p:nvSpPr>
          <p:spPr>
            <a:xfrm>
              <a:off x="205092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5600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80000" y="4292640"/>
              <a:ext cx="57600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0364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27280" y="4292640"/>
              <a:ext cx="576360" cy="576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050920" y="4869000"/>
            <a:ext cx="2881440" cy="576000"/>
            <a:chOff x="2050920" y="4869000"/>
            <a:chExt cx="2881440" cy="576000"/>
          </a:xfrm>
        </p:grpSpPr>
        <p:sp>
          <p:nvSpPr>
            <p:cNvPr id="228" name=""/>
            <p:cNvSpPr/>
            <p:nvPr/>
          </p:nvSpPr>
          <p:spPr>
            <a:xfrm>
              <a:off x="435600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80000" y="486900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0364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2728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0920" y="486900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203640" y="5445000"/>
            <a:ext cx="57636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627280" y="6021360"/>
            <a:ext cx="1728720" cy="576000"/>
            <a:chOff x="2627280" y="6021360"/>
            <a:chExt cx="1728720" cy="576000"/>
          </a:xfrm>
        </p:grpSpPr>
        <p:sp>
          <p:nvSpPr>
            <p:cNvPr id="235" name=""/>
            <p:cNvSpPr/>
            <p:nvPr/>
          </p:nvSpPr>
          <p:spPr>
            <a:xfrm>
              <a:off x="3780000" y="6021360"/>
              <a:ext cx="57600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27280" y="602136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3640" y="6021360"/>
              <a:ext cx="576360" cy="576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134800" y="2440080"/>
            <a:ext cx="4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681640" y="2440080"/>
            <a:ext cx="2203920" cy="703440"/>
            <a:chOff x="2681640" y="2440080"/>
            <a:chExt cx="2203920" cy="703440"/>
          </a:xfrm>
        </p:grpSpPr>
        <p:sp>
          <p:nvSpPr>
            <p:cNvPr id="240" name=""/>
            <p:cNvSpPr/>
            <p:nvPr/>
          </p:nvSpPr>
          <p:spPr>
            <a:xfrm>
              <a:off x="2681640" y="2440080"/>
              <a:ext cx="49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р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1400" y="2440080"/>
              <a:ext cx="43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56680" y="2440080"/>
              <a:ext cx="47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03160" y="2440080"/>
              <a:ext cx="482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332000" y="2565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332000" y="3141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24000" y="3789360"/>
            <a:ext cx="4302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332000" y="429264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332000" y="4941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79640" y="6021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34800" y="3014640"/>
            <a:ext cx="4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698920" y="3011400"/>
            <a:ext cx="2760120" cy="706680"/>
            <a:chOff x="2698920" y="3011400"/>
            <a:chExt cx="2760120" cy="706680"/>
          </a:xfrm>
        </p:grpSpPr>
        <p:sp>
          <p:nvSpPr>
            <p:cNvPr id="252" name=""/>
            <p:cNvSpPr/>
            <p:nvPr/>
          </p:nvSpPr>
          <p:spPr>
            <a:xfrm>
              <a:off x="2698920" y="301464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96160" y="301140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л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49840" y="301464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10720" y="301464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93200" y="301464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693520" y="3645000"/>
            <a:ext cx="44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275280" y="3591000"/>
            <a:ext cx="5117040" cy="703440"/>
            <a:chOff x="3275280" y="3591000"/>
            <a:chExt cx="5117040" cy="703440"/>
          </a:xfrm>
        </p:grpSpPr>
        <p:sp>
          <p:nvSpPr>
            <p:cNvPr id="259" name=""/>
            <p:cNvSpPr/>
            <p:nvPr/>
          </p:nvSpPr>
          <p:spPr>
            <a:xfrm>
              <a:off x="3275280" y="35910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33640" y="359100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34480" y="359100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85640" y="3591000"/>
              <a:ext cx="49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2360" y="359100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54920" y="35910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42440" y="3591000"/>
              <a:ext cx="42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35640" y="359100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85440" y="359100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035440" y="42400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700720" y="4222800"/>
            <a:ext cx="2149560" cy="720720"/>
            <a:chOff x="2700720" y="4222800"/>
            <a:chExt cx="2149560" cy="720720"/>
          </a:xfrm>
        </p:grpSpPr>
        <p:sp>
          <p:nvSpPr>
            <p:cNvPr id="270" name=""/>
            <p:cNvSpPr/>
            <p:nvPr/>
          </p:nvSpPr>
          <p:spPr>
            <a:xfrm>
              <a:off x="2700720" y="424008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59800" y="4222800"/>
              <a:ext cx="473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49840" y="4222800"/>
              <a:ext cx="48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27280" y="422280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134080" y="4797360"/>
            <a:ext cx="4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707560" y="4797360"/>
            <a:ext cx="2175120" cy="703440"/>
            <a:chOff x="2707560" y="4797360"/>
            <a:chExt cx="2175120" cy="703440"/>
          </a:xfrm>
        </p:grpSpPr>
        <p:sp>
          <p:nvSpPr>
            <p:cNvPr id="276" name=""/>
            <p:cNvSpPr/>
            <p:nvPr/>
          </p:nvSpPr>
          <p:spPr>
            <a:xfrm>
              <a:off x="2707560" y="4797360"/>
              <a:ext cx="497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77080" y="4797360"/>
              <a:ext cx="5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33640" y="4797360"/>
              <a:ext cx="50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16840" y="4797360"/>
              <a:ext cx="46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2597400" y="596736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274200" y="5967360"/>
            <a:ext cx="1029960" cy="703440"/>
            <a:chOff x="3274200" y="5967360"/>
            <a:chExt cx="1029960" cy="703440"/>
          </a:xfrm>
        </p:grpSpPr>
        <p:sp>
          <p:nvSpPr>
            <p:cNvPr id="282" name=""/>
            <p:cNvSpPr/>
            <p:nvPr/>
          </p:nvSpPr>
          <p:spPr>
            <a:xfrm>
              <a:off x="3274200" y="596736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40120" y="5967360"/>
              <a:ext cx="464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203640" y="1484280"/>
            <a:ext cx="50472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177000" y="1916280"/>
            <a:ext cx="640800" cy="4160880"/>
            <a:chOff x="3177000" y="1916280"/>
            <a:chExt cx="640800" cy="4160880"/>
          </a:xfrm>
        </p:grpSpPr>
        <p:sp>
          <p:nvSpPr>
            <p:cNvPr id="286" name=""/>
            <p:cNvSpPr/>
            <p:nvPr/>
          </p:nvSpPr>
          <p:spPr>
            <a:xfrm>
              <a:off x="3177000" y="5373720"/>
              <a:ext cx="64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85000" y="1916280"/>
              <a:ext cx="42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omic Sans MS"/>
                </a:rPr>
                <a:t>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2098800" cy="38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084720" y="0"/>
            <a:ext cx="3275280" cy="46512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028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нутренние орган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3214800"/>
            <a:ext cx="576360" cy="574560"/>
          </a:xfrm>
          <a:prstGeom prst="rect">
            <a:avLst/>
          </a:prstGeom>
          <a:solidFill>
            <a:srgbClr val="47c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71640" y="1484280"/>
            <a:ext cx="576360" cy="574560"/>
          </a:xfrm>
          <a:prstGeom prst="rect">
            <a:avLst/>
          </a:prstGeom>
          <a:solidFill>
            <a:srgbClr val="47c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195640" y="2060640"/>
            <a:ext cx="3457440" cy="574560"/>
            <a:chOff x="2195640" y="2060640"/>
            <a:chExt cx="3457440" cy="574560"/>
          </a:xfrm>
        </p:grpSpPr>
        <p:sp>
          <p:nvSpPr>
            <p:cNvPr id="294" name=""/>
            <p:cNvSpPr/>
            <p:nvPr/>
          </p:nvSpPr>
          <p:spPr>
            <a:xfrm>
              <a:off x="277164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4800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95640" y="206064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7672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00720" y="206064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24360" y="206064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2637000"/>
            <a:ext cx="3456000" cy="574560"/>
            <a:chOff x="2771640" y="2637000"/>
            <a:chExt cx="3456000" cy="574560"/>
          </a:xfrm>
        </p:grpSpPr>
        <p:sp>
          <p:nvSpPr>
            <p:cNvPr id="301" name=""/>
            <p:cNvSpPr/>
            <p:nvPr/>
          </p:nvSpPr>
          <p:spPr>
            <a:xfrm>
              <a:off x="277164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51640" y="263700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7672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00720" y="263700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2436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48000" y="263700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042920" y="3789360"/>
            <a:ext cx="3457800" cy="574560"/>
            <a:chOff x="1042920" y="3789360"/>
            <a:chExt cx="3457800" cy="574560"/>
          </a:xfrm>
        </p:grpSpPr>
        <p:sp>
          <p:nvSpPr>
            <p:cNvPr id="308" name=""/>
            <p:cNvSpPr/>
            <p:nvPr/>
          </p:nvSpPr>
          <p:spPr>
            <a:xfrm>
              <a:off x="277164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4292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1928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95640" y="378936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2436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48000" y="378936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195640" y="4365720"/>
            <a:ext cx="2305080" cy="574560"/>
            <a:chOff x="2195640" y="4365720"/>
            <a:chExt cx="2305080" cy="574560"/>
          </a:xfrm>
        </p:grpSpPr>
        <p:sp>
          <p:nvSpPr>
            <p:cNvPr id="315" name=""/>
            <p:cNvSpPr/>
            <p:nvPr/>
          </p:nvSpPr>
          <p:spPr>
            <a:xfrm>
              <a:off x="392436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4800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95640" y="4365720"/>
              <a:ext cx="57600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71640" y="4365720"/>
              <a:ext cx="576360" cy="57456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771640" y="4941720"/>
            <a:ext cx="4608720" cy="574920"/>
            <a:chOff x="2771640" y="4941720"/>
            <a:chExt cx="4608720" cy="574920"/>
          </a:xfrm>
        </p:grpSpPr>
        <p:sp>
          <p:nvSpPr>
            <p:cNvPr id="320" name=""/>
            <p:cNvSpPr/>
            <p:nvPr/>
          </p:nvSpPr>
          <p:spPr>
            <a:xfrm>
              <a:off x="680400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2764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51640" y="4941720"/>
              <a:ext cx="57600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07672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00720" y="4941720"/>
              <a:ext cx="57600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92436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4800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71640" y="4941720"/>
              <a:ext cx="576360" cy="574920"/>
            </a:xfrm>
            <a:prstGeom prst="rect">
              <a:avLst/>
            </a:prstGeom>
            <a:solidFill>
              <a:srgbClr val="47c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7596360" y="5013360"/>
            <a:ext cx="1331640" cy="50328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16000" y="5661000"/>
            <a:ext cx="741672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88040" y="5651640"/>
            <a:ext cx="633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называется главное от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«внутренней кухн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829960" y="1413000"/>
            <a:ext cx="523800" cy="4098600"/>
            <a:chOff x="2829960" y="1413000"/>
            <a:chExt cx="523800" cy="4098600"/>
          </a:xfrm>
        </p:grpSpPr>
        <p:sp>
          <p:nvSpPr>
            <p:cNvPr id="332" name=""/>
            <p:cNvSpPr/>
            <p:nvPr/>
          </p:nvSpPr>
          <p:spPr>
            <a:xfrm>
              <a:off x="2829960" y="141300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41840" y="198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68840" y="256536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20320" y="3141720"/>
              <a:ext cx="41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47960" y="3716280"/>
              <a:ext cx="44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41480" y="4292640"/>
              <a:ext cx="45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36800" y="486900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213560" y="5589720"/>
            <a:ext cx="732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 называют соседку желуд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ходящуюся с правой стороны от нег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210040" y="1989000"/>
            <a:ext cx="3369240" cy="642600"/>
            <a:chOff x="2210040" y="1989000"/>
            <a:chExt cx="3369240" cy="642600"/>
          </a:xfrm>
        </p:grpSpPr>
        <p:sp>
          <p:nvSpPr>
            <p:cNvPr id="341" name=""/>
            <p:cNvSpPr/>
            <p:nvPr/>
          </p:nvSpPr>
          <p:spPr>
            <a:xfrm>
              <a:off x="2210040" y="1989000"/>
              <a:ext cx="46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п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11360" y="1989000"/>
              <a:ext cx="46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994200" y="198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55800" y="198900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27120" y="1989000"/>
              <a:ext cx="452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95360" y="5651640"/>
            <a:ext cx="500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 помощи какого орг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существляется дыха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771640" y="83664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19280" y="206064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95640" y="270828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8360" y="378936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47640" y="443700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195640" y="5013360"/>
            <a:ext cx="503280" cy="504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3418200" y="2565360"/>
            <a:ext cx="2742840" cy="642600"/>
            <a:chOff x="3418200" y="2565360"/>
            <a:chExt cx="2742840" cy="642600"/>
          </a:xfrm>
        </p:grpSpPr>
        <p:sp>
          <p:nvSpPr>
            <p:cNvPr id="354" name=""/>
            <p:cNvSpPr/>
            <p:nvPr/>
          </p:nvSpPr>
          <p:spPr>
            <a:xfrm>
              <a:off x="3418200" y="256536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05360" y="256536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36800" y="256536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48360" y="256536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22920" y="256536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033560" y="5589720"/>
            <a:ext cx="765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й внутренний орган гонит кров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 сосуды и заставляет её обегать всё те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125360" y="3716280"/>
            <a:ext cx="3306960" cy="642600"/>
            <a:chOff x="1125360" y="3716280"/>
            <a:chExt cx="3306960" cy="642600"/>
          </a:xfrm>
        </p:grpSpPr>
        <p:sp>
          <p:nvSpPr>
            <p:cNvPr id="361" name=""/>
            <p:cNvSpPr/>
            <p:nvPr/>
          </p:nvSpPr>
          <p:spPr>
            <a:xfrm>
              <a:off x="1125360" y="371628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90920" y="371628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51440" y="3716280"/>
              <a:ext cx="46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17840" y="3716280"/>
              <a:ext cx="47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94200" y="371628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48400" y="5589720"/>
            <a:ext cx="708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т орган называют «глав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мандным пунктом всего организм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194920" y="4292640"/>
            <a:ext cx="2189160" cy="642600"/>
            <a:chOff x="2194920" y="4292640"/>
            <a:chExt cx="2189160" cy="642600"/>
          </a:xfrm>
        </p:grpSpPr>
        <p:sp>
          <p:nvSpPr>
            <p:cNvPr id="368" name=""/>
            <p:cNvSpPr/>
            <p:nvPr/>
          </p:nvSpPr>
          <p:spPr>
            <a:xfrm>
              <a:off x="2194920" y="4292640"/>
              <a:ext cx="52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10280" y="4292640"/>
              <a:ext cx="40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05360" y="4292640"/>
              <a:ext cx="3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937880" y="5661000"/>
            <a:ext cx="597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акой орган «внутренней кух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хож на извилистый лабирин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376440" y="4869000"/>
            <a:ext cx="3917160" cy="642600"/>
            <a:chOff x="3376440" y="4869000"/>
            <a:chExt cx="3917160" cy="642600"/>
          </a:xfrm>
        </p:grpSpPr>
        <p:sp>
          <p:nvSpPr>
            <p:cNvPr id="373" name=""/>
            <p:cNvSpPr/>
            <p:nvPr/>
          </p:nvSpPr>
          <p:spPr>
            <a:xfrm>
              <a:off x="3376440" y="486900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36960" y="4869000"/>
              <a:ext cx="59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70560" y="4869000"/>
              <a:ext cx="43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32160" y="4869000"/>
              <a:ext cx="461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08520" y="4869000"/>
              <a:ext cx="471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00720" y="4869000"/>
              <a:ext cx="47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70600" y="4869000"/>
              <a:ext cx="4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9" dur="indefinite" restart="never" nodeType="tmRoot">
          <p:childTnLst>
            <p:seq>
              <p:cTn id="320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7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Источн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ciencemagic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?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ag=moz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health.km.ru/F1C14F04B1324349B4E471E92C7E33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ccx.com.ua/my_files/ru/anatomy_of_heart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900igr.net/kartinki/chelovek/_Organy-tela.files/011-ZHeludo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doktor-mozg.ru/page/3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www.biovitaclub.ru/product/EZ-10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http://doctoram.net/content/znaete-li-vy-gde-naxoditsya-pechen-u-cheloveka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Панова Оксана Владими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МАОУ «Гимназия №4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г. Великого Нов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ерсональный сай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http://www.panowa-ox.narod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езентация опубликована на сайте - viki.rdf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06040" y="5373360"/>
            <a:ext cx="78692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Рассмотрите схему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и попробуйте её объяс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203640" y="1484280"/>
            <a:ext cx="93672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1484280"/>
            <a:ext cx="936720" cy="649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2276640"/>
            <a:ext cx="3240000" cy="72072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234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24360" y="2349360"/>
            <a:ext cx="2953080" cy="649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06960" y="2349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05200" y="1557360"/>
            <a:ext cx="19908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535640" cy="4556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нешнее строение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это устройство тела человека снаружи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Comic Sans MS"/>
              </a:rPr>
              <a:t>К внешнему строению человека относятся следующие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части тела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5160960" cy="518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050920" y="191628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5240" y="162864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20000" y="4724280"/>
            <a:ext cx="193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Тулов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011640" y="292428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59960" y="2565360"/>
            <a:ext cx="9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6300720" y="4076640"/>
            <a:ext cx="71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227280" y="5084640"/>
            <a:ext cx="792360" cy="86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140000" y="1989000"/>
            <a:ext cx="1223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859280" y="1989000"/>
            <a:ext cx="504720" cy="16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26480" y="148428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Верхни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13400" y="6093000"/>
            <a:ext cx="37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Нижни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859280" y="5589360"/>
            <a:ext cx="100800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635280" y="5300640"/>
            <a:ext cx="1224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285264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1360" y="256536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Гру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3645000"/>
            <a:ext cx="1584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1040" y="3357720"/>
            <a:ext cx="13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Жив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011640" y="378936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87760" y="3429000"/>
            <a:ext cx="12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Сп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5200" y="1557360"/>
            <a:ext cx="1990800" cy="3610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634920" y="1484280"/>
            <a:ext cx="79236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1484280"/>
            <a:ext cx="71928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557360"/>
            <a:ext cx="2305080" cy="64764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1557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4360" y="155736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46600" y="1557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920" y="3573360"/>
            <a:ext cx="4392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Тулови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(грудь, живот, сп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5892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46680" y="2705040"/>
            <a:ext cx="23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асти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Внутреннее стро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602100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Тело человека внутри состоит из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органов</a:t>
            </a: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00360" y="1484280"/>
            <a:ext cx="36720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Работа по учебник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5128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С помощью рисунка на стр. 7 учебника познакомься с внутренними органам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Comic Sans MS"/>
              </a:rPr>
              <a:t>Обрати внимание на их распо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2563920" cy="3384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Проверь себ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419280" cy="5184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2626920" y="19162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83360" y="1566720"/>
            <a:ext cx="31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Головной моз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56000" y="378936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2340000" y="4292640"/>
            <a:ext cx="35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050920" y="4653000"/>
            <a:ext cx="237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700000" y="5013360"/>
            <a:ext cx="331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340000" y="566100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60040" y="345276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Лёг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55200" y="4029120"/>
            <a:ext cx="164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77680" y="4317840"/>
            <a:ext cx="168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Печ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1200" y="474984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Желуд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9600" y="539748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Кише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851280" y="1773360"/>
            <a:ext cx="1944720" cy="35272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Строение тел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634920" y="1484280"/>
            <a:ext cx="79236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32360" y="1484280"/>
            <a:ext cx="71928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1557360"/>
            <a:ext cx="2305080" cy="647640"/>
          </a:xfrm>
          <a:prstGeom prst="roundRect">
            <a:avLst>
              <a:gd name="adj" fmla="val 16667"/>
            </a:avLst>
          </a:prstGeom>
          <a:solidFill>
            <a:srgbClr val="6dffc4"/>
          </a:solidFill>
          <a:ln w="38160">
            <a:solidFill>
              <a:srgbClr val="00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1557360"/>
            <a:ext cx="22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еш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4360" y="1557360"/>
            <a:ext cx="2519640" cy="647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46600" y="155736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нутрен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42920" y="3573360"/>
            <a:ext cx="439272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Ш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Туловищ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mic Sans MS"/>
              </a:rPr>
              <a:t>(грудь, живот, сп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Ру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46680" y="2708280"/>
            <a:ext cx="23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асти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4000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948360" y="220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000" y="270828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75ffff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1000" y="2708280"/>
            <a:ext cx="17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3573360"/>
            <a:ext cx="439236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Головной моз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Лёг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omic Sans MS"/>
              </a:rPr>
              <a:t>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0T12:20:41Z</dcterms:created>
  <dc:creator>мама</dc:creator>
  <dc:description/>
  <dc:language>en-US</dc:language>
  <cp:lastModifiedBy>мама</cp:lastModifiedBy>
  <dcterms:modified xsi:type="dcterms:W3CDTF">2011-01-03T13:18:49Z</dcterms:modified>
  <cp:revision>15</cp:revision>
  <dc:subject/>
  <dc:title>Строение  тела человека</dc:title>
</cp:coreProperties>
</file>