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A93-9EF1-402C-93FF-91F35B2D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92F-E1BF-49A9-9349-A769512A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2388-21AA-48F8-A0A6-F5A0B807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9F5-E8CC-4E53-81D9-1EFDF2C0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BA26-6AC8-4EF4-8FBA-70849141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5338-470E-44B5-9E68-02486FF2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9E5A-435A-44C4-9A87-266FCC66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28B2-A46B-4939-A45A-1CB54811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890C-A5E2-4D8A-83CB-9EF33B0D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E994-767D-4871-A025-8B121D0E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A495-02B3-4208-8122-AE40F43A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58C-0236-4A3E-83DA-4FAAF0C6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E637-A8CD-4709-A001-DC553F6B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A986-2B7D-4B5B-AC43-4B81324A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C834-EFFF-44A5-8E69-78602AA3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5B19-BC1E-4A15-B6B5-1134BD00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73AA-266F-485B-A9DC-84229D90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C62-0A1F-4515-9DF1-D5F13800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4A0-B21A-48E4-B336-D63B63BB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816-5872-487E-9A25-D3960B2E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B24-19D2-4883-87B8-A4DABB94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00B-6CC0-45E9-B8E2-F94E493B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A0F-08E9-465F-9E57-C5EA087B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A4D-9941-4190-9E0E-D7304A0E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 flipH="1">
            <a:off x="0" y="0"/>
            <a:ext cx="838080" cy="6858000"/>
          </a:xfrm>
          <a:prstGeom prst="pie">
            <a:avLst/>
          </a:pr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4495680" y="2209680"/>
            <a:ext cx="15228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5400000">
            <a:off x="4534560" y="-3189960"/>
            <a:ext cx="7452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F5A1-5507-45BF-9A1B-C32EEB1E3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12"/>
          <p:cNvSpPr/>
          <p:nvPr/>
        </p:nvSpPr>
        <p:spPr>
          <a:xfrm flipH="1">
            <a:off x="-720" y="0"/>
            <a:ext cx="2438280" cy="6858000"/>
          </a:xfrm>
          <a:prstGeom prst="pie">
            <a:avLst/>
          </a:pr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3029040" cy="4038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9" name=""/>
          <p:cNvSpPr/>
          <p:nvPr/>
        </p:nvSpPr>
        <p:spPr>
          <a:xfrm rot="5400000">
            <a:off x="4395600" y="1166760"/>
            <a:ext cx="35244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4510080" y="-3138480"/>
            <a:ext cx="12384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305920" y="0"/>
            <a:ext cx="539640" cy="1362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17524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6D53-5C7B-4DA2-8CD5-49578A570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iencemagic.ru/?tag=mozg" TargetMode="External"/><Relationship Id="rId2" Type="http://schemas.openxmlformats.org/officeDocument/2006/relationships/hyperlink" Target="http://sciencemagic.ru/?tag=mozg" TargetMode="External"/><Relationship Id="rId3" Type="http://schemas.openxmlformats.org/officeDocument/2006/relationships/hyperlink" Target="http://sciencemagic.ru/?tag=mozg" TargetMode="External"/><Relationship Id="rId4" Type="http://schemas.openxmlformats.org/officeDocument/2006/relationships/hyperlink" Target="http://sciencemagic.ru/?tag=mozg" TargetMode="External"/><Relationship Id="rId5" Type="http://schemas.openxmlformats.org/officeDocument/2006/relationships/hyperlink" Target="http://sciencemagic.ru/?tag=mozg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1916280"/>
            <a:ext cx="60199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Строение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тела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35280" y="425556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Окружающи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Головной моз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95280" y="2172960"/>
            <a:ext cx="5219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оловной мозг –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лавный коман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пункт организм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Всеми вашими мысля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чувствами, движен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управляет моз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762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Лёгк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5256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ыхание человека происх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ит при помощи лёгк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которые находятся в гру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Лёгкие похожи на губ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При выдохе они выпуск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из себя воздух и уменьша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 размере. Когда мы дел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м вдох, лёгкие наполня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оздухом и расшир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ерд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0280" y="1600200"/>
            <a:ext cx="512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 находится в груди человека. Размером оно всего с кул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 – неутомимый мотор, который непрерывно гонит в сосуды кровь и заставляет её обегать всё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593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06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Желудок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лавное отделение «внутренней кухн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80000" y="1483920"/>
            <a:ext cx="536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Желудок находится в верх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й части живота (под рёб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ми) с левой стороны. Когд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го попадает пища, он ра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яги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Чем больше пищи мы съ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аем, тем сильнее растяги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тся желуд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 желудке пища перераб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ывается, но  лишь напол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3801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Кишеч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796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желудка пища отправляе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я в длинное путешестви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вилистому кишечнику.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янется почти на 8 метров. Только после того как п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йдёт этот путь, она прев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тся в прозрачные раство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орые может впитать в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овь и разнести по вс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ганиз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58632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еч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24000" y="1628640"/>
            <a:ext cx="5219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ечень живёт с пр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вой стороны от желуд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 в верхне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ив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Она вырабаты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елчь, которая поступ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в кишечник и помог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переваривать пищ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909960" cy="3959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H="1">
            <a:off x="1835280" y="1125360"/>
            <a:ext cx="2449440" cy="187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Части т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1989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050920" y="2565360"/>
            <a:ext cx="2881440" cy="576360"/>
            <a:chOff x="2050920" y="2565360"/>
            <a:chExt cx="2881440" cy="576360"/>
          </a:xfrm>
        </p:grpSpPr>
        <p:sp>
          <p:nvSpPr>
            <p:cNvPr id="198" name=""/>
            <p:cNvSpPr/>
            <p:nvPr/>
          </p:nvSpPr>
          <p:spPr>
            <a:xfrm>
              <a:off x="320328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5600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7964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092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7280" y="256536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50920" y="3139920"/>
            <a:ext cx="3457440" cy="576360"/>
            <a:chOff x="2050920" y="3139920"/>
            <a:chExt cx="3457440" cy="576360"/>
          </a:xfrm>
        </p:grpSpPr>
        <p:sp>
          <p:nvSpPr>
            <p:cNvPr id="204" name=""/>
            <p:cNvSpPr/>
            <p:nvPr/>
          </p:nvSpPr>
          <p:spPr>
            <a:xfrm>
              <a:off x="205092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728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200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5600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7964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0328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627280" y="3716280"/>
            <a:ext cx="5761080" cy="576000"/>
            <a:chOff x="2627280" y="3716280"/>
            <a:chExt cx="5761080" cy="576000"/>
          </a:xfrm>
        </p:grpSpPr>
        <p:sp>
          <p:nvSpPr>
            <p:cNvPr id="211" name=""/>
            <p:cNvSpPr/>
            <p:nvPr/>
          </p:nvSpPr>
          <p:spPr>
            <a:xfrm>
              <a:off x="26272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12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5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10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8472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0836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3236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56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79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364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050920" y="4292640"/>
            <a:ext cx="2881440" cy="576360"/>
            <a:chOff x="2050920" y="4292640"/>
            <a:chExt cx="2881440" cy="576360"/>
          </a:xfrm>
        </p:grpSpPr>
        <p:sp>
          <p:nvSpPr>
            <p:cNvPr id="222" name=""/>
            <p:cNvSpPr/>
            <p:nvPr/>
          </p:nvSpPr>
          <p:spPr>
            <a:xfrm>
              <a:off x="205092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5600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0000" y="429264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364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2728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050920" y="4869000"/>
            <a:ext cx="2881440" cy="576000"/>
            <a:chOff x="2050920" y="4869000"/>
            <a:chExt cx="2881440" cy="576000"/>
          </a:xfrm>
        </p:grpSpPr>
        <p:sp>
          <p:nvSpPr>
            <p:cNvPr id="228" name=""/>
            <p:cNvSpPr/>
            <p:nvPr/>
          </p:nvSpPr>
          <p:spPr>
            <a:xfrm>
              <a:off x="435600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0000" y="486900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364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728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092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203640" y="5445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7280" y="6021360"/>
            <a:ext cx="1728720" cy="576000"/>
            <a:chOff x="2627280" y="6021360"/>
            <a:chExt cx="1728720" cy="576000"/>
          </a:xfrm>
        </p:grpSpPr>
        <p:sp>
          <p:nvSpPr>
            <p:cNvPr id="235" name=""/>
            <p:cNvSpPr/>
            <p:nvPr/>
          </p:nvSpPr>
          <p:spPr>
            <a:xfrm>
              <a:off x="3780000" y="602136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2728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364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134800" y="244008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81640" y="2440080"/>
            <a:ext cx="2203920" cy="703440"/>
            <a:chOff x="2681640" y="2440080"/>
            <a:chExt cx="2203920" cy="703440"/>
          </a:xfrm>
        </p:grpSpPr>
        <p:sp>
          <p:nvSpPr>
            <p:cNvPr id="240" name=""/>
            <p:cNvSpPr/>
            <p:nvPr/>
          </p:nvSpPr>
          <p:spPr>
            <a:xfrm>
              <a:off x="2681640" y="2440080"/>
              <a:ext cx="49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1400" y="2440080"/>
              <a:ext cx="43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56680" y="2440080"/>
              <a:ext cx="47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03160" y="2440080"/>
              <a:ext cx="48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332000" y="2565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31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24000" y="3789360"/>
            <a:ext cx="4302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29264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2000" y="49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9640" y="602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34800" y="301464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698920" y="3011400"/>
            <a:ext cx="2760120" cy="706680"/>
            <a:chOff x="2698920" y="3011400"/>
            <a:chExt cx="2760120" cy="706680"/>
          </a:xfrm>
        </p:grpSpPr>
        <p:sp>
          <p:nvSpPr>
            <p:cNvPr id="252" name=""/>
            <p:cNvSpPr/>
            <p:nvPr/>
          </p:nvSpPr>
          <p:spPr>
            <a:xfrm>
              <a:off x="269892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96160" y="30114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4984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10720" y="301464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93200" y="301464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693520" y="364500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275280" y="3591000"/>
            <a:ext cx="5117040" cy="703440"/>
            <a:chOff x="3275280" y="3591000"/>
            <a:chExt cx="5117040" cy="703440"/>
          </a:xfrm>
        </p:grpSpPr>
        <p:sp>
          <p:nvSpPr>
            <p:cNvPr id="259" name=""/>
            <p:cNvSpPr/>
            <p:nvPr/>
          </p:nvSpPr>
          <p:spPr>
            <a:xfrm>
              <a:off x="327528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3364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34480" y="359100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85640" y="359100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236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5492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42440" y="3591000"/>
              <a:ext cx="4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35640" y="35910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85440" y="359100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035440" y="42400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700720" y="4222800"/>
            <a:ext cx="2149560" cy="720720"/>
            <a:chOff x="2700720" y="4222800"/>
            <a:chExt cx="2149560" cy="720720"/>
          </a:xfrm>
        </p:grpSpPr>
        <p:sp>
          <p:nvSpPr>
            <p:cNvPr id="270" name=""/>
            <p:cNvSpPr/>
            <p:nvPr/>
          </p:nvSpPr>
          <p:spPr>
            <a:xfrm>
              <a:off x="2700720" y="424008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9800" y="42228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49840" y="42228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27280" y="42228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134080" y="479736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707560" y="4797360"/>
            <a:ext cx="2175120" cy="703440"/>
            <a:chOff x="2707560" y="4797360"/>
            <a:chExt cx="2175120" cy="703440"/>
          </a:xfrm>
        </p:grpSpPr>
        <p:sp>
          <p:nvSpPr>
            <p:cNvPr id="276" name=""/>
            <p:cNvSpPr/>
            <p:nvPr/>
          </p:nvSpPr>
          <p:spPr>
            <a:xfrm>
              <a:off x="2707560" y="4797360"/>
              <a:ext cx="497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77080" y="479736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33640" y="479736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16840" y="479736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597400" y="596736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274200" y="5967360"/>
            <a:ext cx="1029960" cy="703440"/>
            <a:chOff x="3274200" y="5967360"/>
            <a:chExt cx="1029960" cy="703440"/>
          </a:xfrm>
        </p:grpSpPr>
        <p:sp>
          <p:nvSpPr>
            <p:cNvPr id="282" name=""/>
            <p:cNvSpPr/>
            <p:nvPr/>
          </p:nvSpPr>
          <p:spPr>
            <a:xfrm>
              <a:off x="3274200" y="596736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40120" y="5967360"/>
              <a:ext cx="46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203640" y="1484280"/>
            <a:ext cx="50472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177000" y="1916280"/>
            <a:ext cx="640800" cy="4160880"/>
            <a:chOff x="3177000" y="1916280"/>
            <a:chExt cx="640800" cy="4160880"/>
          </a:xfrm>
        </p:grpSpPr>
        <p:sp>
          <p:nvSpPr>
            <p:cNvPr id="286" name=""/>
            <p:cNvSpPr/>
            <p:nvPr/>
          </p:nvSpPr>
          <p:spPr>
            <a:xfrm>
              <a:off x="3177000" y="5373720"/>
              <a:ext cx="64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85000" y="191628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09880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084720" y="0"/>
            <a:ext cx="3275280" cy="46512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2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утренние орга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21480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71640" y="148428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195640" y="2060640"/>
            <a:ext cx="3457440" cy="574560"/>
            <a:chOff x="2195640" y="2060640"/>
            <a:chExt cx="3457440" cy="574560"/>
          </a:xfrm>
        </p:grpSpPr>
        <p:sp>
          <p:nvSpPr>
            <p:cNvPr id="294" name=""/>
            <p:cNvSpPr/>
            <p:nvPr/>
          </p:nvSpPr>
          <p:spPr>
            <a:xfrm>
              <a:off x="277164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4800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9564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7672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0072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2637000"/>
            <a:ext cx="3456000" cy="574560"/>
            <a:chOff x="2771640" y="2637000"/>
            <a:chExt cx="3456000" cy="574560"/>
          </a:xfrm>
        </p:grpSpPr>
        <p:sp>
          <p:nvSpPr>
            <p:cNvPr id="301" name=""/>
            <p:cNvSpPr/>
            <p:nvPr/>
          </p:nvSpPr>
          <p:spPr>
            <a:xfrm>
              <a:off x="277164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164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7672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0072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2436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800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042920" y="3789360"/>
            <a:ext cx="3457800" cy="574560"/>
            <a:chOff x="1042920" y="3789360"/>
            <a:chExt cx="3457800" cy="574560"/>
          </a:xfrm>
        </p:grpSpPr>
        <p:sp>
          <p:nvSpPr>
            <p:cNvPr id="308" name=""/>
            <p:cNvSpPr/>
            <p:nvPr/>
          </p:nvSpPr>
          <p:spPr>
            <a:xfrm>
              <a:off x="277164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292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1928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95640" y="378936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2436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4800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195640" y="4365720"/>
            <a:ext cx="2305080" cy="574560"/>
            <a:chOff x="2195640" y="4365720"/>
            <a:chExt cx="2305080" cy="574560"/>
          </a:xfrm>
        </p:grpSpPr>
        <p:sp>
          <p:nvSpPr>
            <p:cNvPr id="315" name=""/>
            <p:cNvSpPr/>
            <p:nvPr/>
          </p:nvSpPr>
          <p:spPr>
            <a:xfrm>
              <a:off x="392436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800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95640" y="436572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164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771640" y="4941720"/>
            <a:ext cx="4608720" cy="574920"/>
            <a:chOff x="2771640" y="4941720"/>
            <a:chExt cx="4608720" cy="574920"/>
          </a:xfrm>
        </p:grpSpPr>
        <p:sp>
          <p:nvSpPr>
            <p:cNvPr id="320" name=""/>
            <p:cNvSpPr/>
            <p:nvPr/>
          </p:nvSpPr>
          <p:spPr>
            <a:xfrm>
              <a:off x="6804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27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5164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7672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0072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2436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48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71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596360" y="5013360"/>
            <a:ext cx="133164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16000" y="5661000"/>
            <a:ext cx="741672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88040" y="5651640"/>
            <a:ext cx="633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ется главное от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внутренней кухн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829960" y="1413000"/>
            <a:ext cx="523800" cy="4098600"/>
            <a:chOff x="2829960" y="1413000"/>
            <a:chExt cx="523800" cy="4098600"/>
          </a:xfrm>
        </p:grpSpPr>
        <p:sp>
          <p:nvSpPr>
            <p:cNvPr id="332" name=""/>
            <p:cNvSpPr/>
            <p:nvPr/>
          </p:nvSpPr>
          <p:spPr>
            <a:xfrm>
              <a:off x="2829960" y="141300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4184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68840" y="256536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20320" y="3141720"/>
              <a:ext cx="41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47960" y="3716280"/>
              <a:ext cx="44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41480" y="4292640"/>
              <a:ext cx="45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368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213560" y="5589720"/>
            <a:ext cx="732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ют соседку желуд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ходящуюся с правой стороны от н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210040" y="1989000"/>
            <a:ext cx="3369240" cy="642600"/>
            <a:chOff x="2210040" y="1989000"/>
            <a:chExt cx="3369240" cy="642600"/>
          </a:xfrm>
        </p:grpSpPr>
        <p:sp>
          <p:nvSpPr>
            <p:cNvPr id="341" name=""/>
            <p:cNvSpPr/>
            <p:nvPr/>
          </p:nvSpPr>
          <p:spPr>
            <a:xfrm>
              <a:off x="2210040" y="1989000"/>
              <a:ext cx="46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11360" y="198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9420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55800" y="198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27120" y="1989000"/>
              <a:ext cx="45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95360" y="5651640"/>
            <a:ext cx="500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 помощи какого орг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уществляется дых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71640" y="836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19280" y="2060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95640" y="270828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789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443700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95640" y="5013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418200" y="2565360"/>
            <a:ext cx="2742840" cy="642600"/>
            <a:chOff x="3418200" y="2565360"/>
            <a:chExt cx="2742840" cy="642600"/>
          </a:xfrm>
        </p:grpSpPr>
        <p:sp>
          <p:nvSpPr>
            <p:cNvPr id="354" name=""/>
            <p:cNvSpPr/>
            <p:nvPr/>
          </p:nvSpPr>
          <p:spPr>
            <a:xfrm>
              <a:off x="341820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05360" y="2565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36800" y="256536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48360" y="256536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292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033560" y="5589720"/>
            <a:ext cx="76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внутренний орган гонит кр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сосуды и заставляет её обегать всё те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125360" y="3716280"/>
            <a:ext cx="3306960" cy="642600"/>
            <a:chOff x="1125360" y="3716280"/>
            <a:chExt cx="3306960" cy="642600"/>
          </a:xfrm>
        </p:grpSpPr>
        <p:sp>
          <p:nvSpPr>
            <p:cNvPr id="361" name=""/>
            <p:cNvSpPr/>
            <p:nvPr/>
          </p:nvSpPr>
          <p:spPr>
            <a:xfrm>
              <a:off x="1125360" y="371628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9092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51440" y="371628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17840" y="3716280"/>
              <a:ext cx="4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9420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48400" y="5589720"/>
            <a:ext cx="708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т орган называют «глав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мандным пунктом всего организ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194920" y="4292640"/>
            <a:ext cx="2189160" cy="642600"/>
            <a:chOff x="2194920" y="4292640"/>
            <a:chExt cx="2189160" cy="642600"/>
          </a:xfrm>
        </p:grpSpPr>
        <p:sp>
          <p:nvSpPr>
            <p:cNvPr id="368" name=""/>
            <p:cNvSpPr/>
            <p:nvPr/>
          </p:nvSpPr>
          <p:spPr>
            <a:xfrm>
              <a:off x="2194920" y="4292640"/>
              <a:ext cx="52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0280" y="4292640"/>
              <a:ext cx="40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05360" y="4292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37880" y="5661000"/>
            <a:ext cx="59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орган «внутренней кух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хож на извилистый лабирин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376440" y="4869000"/>
            <a:ext cx="3917160" cy="642600"/>
            <a:chOff x="3376440" y="4869000"/>
            <a:chExt cx="3917160" cy="642600"/>
          </a:xfrm>
        </p:grpSpPr>
        <p:sp>
          <p:nvSpPr>
            <p:cNvPr id="373" name=""/>
            <p:cNvSpPr/>
            <p:nvPr/>
          </p:nvSpPr>
          <p:spPr>
            <a:xfrm>
              <a:off x="337644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6960" y="486900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0560" y="486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32160" y="486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08520" y="486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0072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706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ciencemagic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?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ag=moz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health.km.ru/F1C14F04B1324349B4E471E92C7E3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ccx.com.ua/my_files/ru/anatomy_of_heart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900igr.net/kartinki/chelovek/_Organy-tela.files/011-ZHeludo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doktor-mozg.ru/page/3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biovitaclub.ru/product/EZ-10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doctoram.net/content/znaete-li-vy-gde-naxoditsya-pechen-u-chelovek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Панова Оксана Владими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МАОУ «Гимназия №4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г. Великого Нов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ерсональный сай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http://www.panowa-ox.narod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езентация опубликована на сайте - viki.rdf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6040" y="5373360"/>
            <a:ext cx="78692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Рассмотрите схем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и попробуйте её объ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203640" y="1484280"/>
            <a:ext cx="93672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484280"/>
            <a:ext cx="9367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227664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34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2349360"/>
            <a:ext cx="2953080" cy="649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06960" y="2349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535640" cy="4556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ешнее строение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это устройство тела человека снаружи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К внешнему строению человека относятся следующи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части тел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5160960" cy="518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5240" y="162864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20000" y="4724280"/>
            <a:ext cx="19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Тулов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011640" y="2924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59960" y="256536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300720" y="4076640"/>
            <a:ext cx="71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227280" y="5084640"/>
            <a:ext cx="792360" cy="86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40000" y="1989000"/>
            <a:ext cx="1223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59280" y="1989000"/>
            <a:ext cx="50472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26480" y="148428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ерхни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13400" y="6093000"/>
            <a:ext cx="37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Нижни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59280" y="5589360"/>
            <a:ext cx="1008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635280" y="5300640"/>
            <a:ext cx="1224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285264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1360" y="256536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р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364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1040" y="335772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Жив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11640" y="3789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87760" y="342900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Сп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46680" y="270504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утреннее стро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602100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Тело человека внутри состоит из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рганов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672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С помощью рисунка на стр. 7 учебника познакомься с внутренними органам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Обрати внимание на их рас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563920" cy="3384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19280" cy="5184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2626920" y="19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1566720"/>
            <a:ext cx="31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олов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7893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340000" y="429264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050920" y="4653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00000" y="5013360"/>
            <a:ext cx="331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340000" y="566100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0040" y="345276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Лё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55200" y="40291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77680" y="431784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е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1200" y="47498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Желу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9600" y="539748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51280" y="1773360"/>
            <a:ext cx="1944720" cy="35272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46680" y="270828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4836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75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1000" y="270828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573360"/>
            <a:ext cx="4392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ной 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12:20:41Z</dcterms:created>
  <dc:creator>мама</dc:creator>
  <dc:description/>
  <dc:language>en-US</dc:language>
  <cp:lastModifiedBy>мама</cp:lastModifiedBy>
  <dcterms:modified xsi:type="dcterms:W3CDTF">2011-01-03T13:18:49Z</dcterms:modified>
  <cp:revision>15</cp:revision>
  <dc:subject/>
  <dc:title>Строение  тела человека</dc:title>
</cp:coreProperties>
</file>