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AEB-6728-4942-841B-C18D56C1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2BD-520B-4ED7-B8C1-47F22CFE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20F-A017-472B-A1E0-DA55A67D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1DF-DC85-4372-84AA-E7821E82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587-8B0B-4AE7-AD7F-61AFE6DC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759A-0155-4944-890A-98330590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A533-C5B5-4341-A2A6-49855688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206B-CCAA-4BE1-8EED-A2916165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2710-302B-4071-B061-1BCD3B4B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6A6A-3004-4CD2-BF4C-1ECD467A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5007-78EA-490D-BFFA-9F79759C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D31-C2D4-4531-876E-28F16C4E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455E-1CD6-4C63-BD26-8FBB04CF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6F41-312C-485E-852F-D377736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D69F-B1F8-44A5-B1E4-EC9A25FB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6B70-CA76-4FDA-8632-52AD0721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C987-B6E8-496A-A034-01EC1969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A88-20F4-41EE-B385-D6CC4CD4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57B-BE26-4098-8977-2C55260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4AF-7F7A-4862-BFD4-F9AAAE44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BE5-DDAB-4B28-ADF7-0E667D9B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4FC-0A8A-4640-B58D-087F8E56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77A-BF7F-4D12-A7DF-7FE8024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FFC-1E8C-412F-B20E-293C5050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5A58-677A-424F-A7F0-FA120D832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2"/>
          <p:cNvSpPr/>
          <p:nvPr/>
        </p:nvSpPr>
        <p:spPr>
          <a:xfrm flipH="1">
            <a:off x="-720" y="0"/>
            <a:ext cx="24382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17524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E21B-1687-47A0-AA1A-BF6A76477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iencemagic.ru/?tag=mozg" TargetMode="External"/><Relationship Id="rId2" Type="http://schemas.openxmlformats.org/officeDocument/2006/relationships/hyperlink" Target="http://sciencemagic.ru/?tag=mozg" TargetMode="External"/><Relationship Id="rId3" Type="http://schemas.openxmlformats.org/officeDocument/2006/relationships/hyperlink" Target="http://sciencemagic.ru/?tag=mozg" TargetMode="External"/><Relationship Id="rId4" Type="http://schemas.openxmlformats.org/officeDocument/2006/relationships/hyperlink" Target="http://sciencemagic.ru/?tag=mozg" TargetMode="External"/><Relationship Id="rId5" Type="http://schemas.openxmlformats.org/officeDocument/2006/relationships/hyperlink" Target="http://sciencemagic.ru/?tag=mozg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1916280"/>
            <a:ext cx="6019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Строение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тел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35280" y="42555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Головной моз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95280" y="2172960"/>
            <a:ext cx="5219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оловной мозг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лавный коман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ункт организ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Всеми вашими мысля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увствами, движ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управляет моз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6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Лёгк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256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ыхание человека проис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ит при помощи лёг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которые находятся в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Лёгкие похожи на губ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При выдохе они выпус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из себя воздух и уменьш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 размере. Когда мы де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м вдох, лёгкие наполня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оздухом и расши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ерд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0280" y="1600200"/>
            <a:ext cx="512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находится в груди человека. Размером оно всего с кул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– неутомимый мотор, который непрерывно гонит в сосуды кровь и заставляет её обегать всё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9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6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Желудок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лавное отделение «внутренней кухн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Желудок находится в верх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й части живота (под рёб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ми) с левой стороны. Когд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го попадает пища, он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яг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Чем больше пищи мы съ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аем, тем сильнее растяги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тся желу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 желудке пища перераб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ывается, но  лишь напо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801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Кише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желудка пища отправля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в длинное путешестви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вилистому кишечнику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янется почти на 8 метров. Только после того как п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йдёт этот путь, она прев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тся в прозрачные раство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е может впитать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овь и разнести по вс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58632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еч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чень живёт с пр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ой стороны от желу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 в верхне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на вырабат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елчь, которая посту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в кишечник и помо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переваривать пищ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909960" cy="39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1835280" y="1125360"/>
            <a:ext cx="2449440" cy="187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Ча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1989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50920" y="2565360"/>
            <a:ext cx="2881440" cy="576360"/>
            <a:chOff x="2050920" y="2565360"/>
            <a:chExt cx="2881440" cy="576360"/>
          </a:xfrm>
        </p:grpSpPr>
        <p:sp>
          <p:nvSpPr>
            <p:cNvPr id="198" name=""/>
            <p:cNvSpPr/>
            <p:nvPr/>
          </p:nvSpPr>
          <p:spPr>
            <a:xfrm>
              <a:off x="320328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600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964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728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50920" y="3139920"/>
            <a:ext cx="3457440" cy="576360"/>
            <a:chOff x="2050920" y="3139920"/>
            <a:chExt cx="3457440" cy="576360"/>
          </a:xfrm>
        </p:grpSpPr>
        <p:sp>
          <p:nvSpPr>
            <p:cNvPr id="204" name=""/>
            <p:cNvSpPr/>
            <p:nvPr/>
          </p:nvSpPr>
          <p:spPr>
            <a:xfrm>
              <a:off x="205092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200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964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328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627280" y="3716280"/>
            <a:ext cx="5761080" cy="576000"/>
            <a:chOff x="2627280" y="3716280"/>
            <a:chExt cx="5761080" cy="576000"/>
          </a:xfrm>
        </p:grpSpPr>
        <p:sp>
          <p:nvSpPr>
            <p:cNvPr id="211" name=""/>
            <p:cNvSpPr/>
            <p:nvPr/>
          </p:nvSpPr>
          <p:spPr>
            <a:xfrm>
              <a:off x="26272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2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5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10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472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836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3236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9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364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50920" y="4292640"/>
            <a:ext cx="2881440" cy="576360"/>
            <a:chOff x="2050920" y="4292640"/>
            <a:chExt cx="2881440" cy="576360"/>
          </a:xfrm>
        </p:grpSpPr>
        <p:sp>
          <p:nvSpPr>
            <p:cNvPr id="222" name=""/>
            <p:cNvSpPr/>
            <p:nvPr/>
          </p:nvSpPr>
          <p:spPr>
            <a:xfrm>
              <a:off x="205092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6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50920" y="4869000"/>
            <a:ext cx="2881440" cy="576000"/>
            <a:chOff x="2050920" y="4869000"/>
            <a:chExt cx="2881440" cy="576000"/>
          </a:xfrm>
        </p:grpSpPr>
        <p:sp>
          <p:nvSpPr>
            <p:cNvPr id="228" name=""/>
            <p:cNvSpPr/>
            <p:nvPr/>
          </p:nvSpPr>
          <p:spPr>
            <a:xfrm>
              <a:off x="435600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092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03640" y="5445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6021360"/>
            <a:ext cx="1728720" cy="576000"/>
            <a:chOff x="2627280" y="6021360"/>
            <a:chExt cx="1728720" cy="576000"/>
          </a:xfrm>
        </p:grpSpPr>
        <p:sp>
          <p:nvSpPr>
            <p:cNvPr id="235" name=""/>
            <p:cNvSpPr/>
            <p:nvPr/>
          </p:nvSpPr>
          <p:spPr>
            <a:xfrm>
              <a:off x="3780000" y="602136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728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364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4800" y="24400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81640" y="2440080"/>
            <a:ext cx="2203920" cy="703440"/>
            <a:chOff x="2681640" y="2440080"/>
            <a:chExt cx="2203920" cy="703440"/>
          </a:xfrm>
        </p:grpSpPr>
        <p:sp>
          <p:nvSpPr>
            <p:cNvPr id="240" name=""/>
            <p:cNvSpPr/>
            <p:nvPr/>
          </p:nvSpPr>
          <p:spPr>
            <a:xfrm>
              <a:off x="2681640" y="244008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1400" y="2440080"/>
              <a:ext cx="4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6680" y="2440080"/>
              <a:ext cx="47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03160" y="2440080"/>
              <a:ext cx="48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32000" y="2565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1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3789360"/>
            <a:ext cx="4302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29264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49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602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4800" y="301464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98920" y="3011400"/>
            <a:ext cx="2760120" cy="706680"/>
            <a:chOff x="2698920" y="3011400"/>
            <a:chExt cx="2760120" cy="706680"/>
          </a:xfrm>
        </p:grpSpPr>
        <p:sp>
          <p:nvSpPr>
            <p:cNvPr id="252" name=""/>
            <p:cNvSpPr/>
            <p:nvPr/>
          </p:nvSpPr>
          <p:spPr>
            <a:xfrm>
              <a:off x="269892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96160" y="30114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4984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10720" y="30146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3200" y="301464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693520" y="36450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275280" y="3591000"/>
            <a:ext cx="5117040" cy="703440"/>
            <a:chOff x="3275280" y="3591000"/>
            <a:chExt cx="5117040" cy="703440"/>
          </a:xfrm>
        </p:grpSpPr>
        <p:sp>
          <p:nvSpPr>
            <p:cNvPr id="259" name=""/>
            <p:cNvSpPr/>
            <p:nvPr/>
          </p:nvSpPr>
          <p:spPr>
            <a:xfrm>
              <a:off x="327528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364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4480" y="3591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85640" y="359100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36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492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2440" y="35910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5640" y="35910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85440" y="359100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035440" y="4240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00720" y="4222800"/>
            <a:ext cx="2149560" cy="720720"/>
            <a:chOff x="2700720" y="4222800"/>
            <a:chExt cx="2149560" cy="720720"/>
          </a:xfrm>
        </p:grpSpPr>
        <p:sp>
          <p:nvSpPr>
            <p:cNvPr id="270" name=""/>
            <p:cNvSpPr/>
            <p:nvPr/>
          </p:nvSpPr>
          <p:spPr>
            <a:xfrm>
              <a:off x="2700720" y="424008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9800" y="4222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9840" y="42228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27280" y="42228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34080" y="4797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07560" y="4797360"/>
            <a:ext cx="2175120" cy="703440"/>
            <a:chOff x="2707560" y="4797360"/>
            <a:chExt cx="2175120" cy="703440"/>
          </a:xfrm>
        </p:grpSpPr>
        <p:sp>
          <p:nvSpPr>
            <p:cNvPr id="276" name=""/>
            <p:cNvSpPr/>
            <p:nvPr/>
          </p:nvSpPr>
          <p:spPr>
            <a:xfrm>
              <a:off x="2707560" y="4797360"/>
              <a:ext cx="49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7080" y="479736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33640" y="479736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6840" y="479736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597400" y="5967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274200" y="5967360"/>
            <a:ext cx="1029960" cy="703440"/>
            <a:chOff x="3274200" y="5967360"/>
            <a:chExt cx="1029960" cy="703440"/>
          </a:xfrm>
        </p:grpSpPr>
        <p:sp>
          <p:nvSpPr>
            <p:cNvPr id="282" name=""/>
            <p:cNvSpPr/>
            <p:nvPr/>
          </p:nvSpPr>
          <p:spPr>
            <a:xfrm>
              <a:off x="3274200" y="596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0120" y="5967360"/>
              <a:ext cx="4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203640" y="1484280"/>
            <a:ext cx="50472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177000" y="1916280"/>
            <a:ext cx="640800" cy="4160880"/>
            <a:chOff x="3177000" y="1916280"/>
            <a:chExt cx="640800" cy="4160880"/>
          </a:xfrm>
        </p:grpSpPr>
        <p:sp>
          <p:nvSpPr>
            <p:cNvPr id="286" name=""/>
            <p:cNvSpPr/>
            <p:nvPr/>
          </p:nvSpPr>
          <p:spPr>
            <a:xfrm>
              <a:off x="3177000" y="5373720"/>
              <a:ext cx="64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5000" y="191628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0988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275280" cy="465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ие орг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21480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148428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195640" y="2060640"/>
            <a:ext cx="3457440" cy="574560"/>
            <a:chOff x="2195640" y="2060640"/>
            <a:chExt cx="3457440" cy="574560"/>
          </a:xfrm>
        </p:grpSpPr>
        <p:sp>
          <p:nvSpPr>
            <p:cNvPr id="294" name=""/>
            <p:cNvSpPr/>
            <p:nvPr/>
          </p:nvSpPr>
          <p:spPr>
            <a:xfrm>
              <a:off x="277164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800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564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672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072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2637000"/>
            <a:ext cx="3456000" cy="574560"/>
            <a:chOff x="2771640" y="2637000"/>
            <a:chExt cx="3456000" cy="574560"/>
          </a:xfrm>
        </p:grpSpPr>
        <p:sp>
          <p:nvSpPr>
            <p:cNvPr id="301" name=""/>
            <p:cNvSpPr/>
            <p:nvPr/>
          </p:nvSpPr>
          <p:spPr>
            <a:xfrm>
              <a:off x="277164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164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672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072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436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800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042920" y="3789360"/>
            <a:ext cx="3457800" cy="574560"/>
            <a:chOff x="1042920" y="3789360"/>
            <a:chExt cx="3457800" cy="574560"/>
          </a:xfrm>
        </p:grpSpPr>
        <p:sp>
          <p:nvSpPr>
            <p:cNvPr id="308" name=""/>
            <p:cNvSpPr/>
            <p:nvPr/>
          </p:nvSpPr>
          <p:spPr>
            <a:xfrm>
              <a:off x="277164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95640" y="378936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2436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95640" y="4365720"/>
            <a:ext cx="2305080" cy="574560"/>
            <a:chOff x="2195640" y="4365720"/>
            <a:chExt cx="2305080" cy="574560"/>
          </a:xfrm>
        </p:grpSpPr>
        <p:sp>
          <p:nvSpPr>
            <p:cNvPr id="315" name=""/>
            <p:cNvSpPr/>
            <p:nvPr/>
          </p:nvSpPr>
          <p:spPr>
            <a:xfrm>
              <a:off x="392436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95640" y="436572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164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771640" y="4941720"/>
            <a:ext cx="4608720" cy="574920"/>
            <a:chOff x="2771640" y="4941720"/>
            <a:chExt cx="4608720" cy="574920"/>
          </a:xfrm>
        </p:grpSpPr>
        <p:sp>
          <p:nvSpPr>
            <p:cNvPr id="320" name=""/>
            <p:cNvSpPr/>
            <p:nvPr/>
          </p:nvSpPr>
          <p:spPr>
            <a:xfrm>
              <a:off x="6804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7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164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672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0072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2436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1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596360" y="5013360"/>
            <a:ext cx="133164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566100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88040" y="565164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главное от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внутренней кухн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29960" y="1413000"/>
            <a:ext cx="523800" cy="4098600"/>
            <a:chOff x="2829960" y="1413000"/>
            <a:chExt cx="523800" cy="4098600"/>
          </a:xfrm>
        </p:grpSpPr>
        <p:sp>
          <p:nvSpPr>
            <p:cNvPr id="332" name=""/>
            <p:cNvSpPr/>
            <p:nvPr/>
          </p:nvSpPr>
          <p:spPr>
            <a:xfrm>
              <a:off x="2829960" y="14130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4184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8840" y="256536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20320" y="314172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47960" y="3716280"/>
              <a:ext cx="4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1480" y="4292640"/>
              <a:ext cx="45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368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213560" y="5589720"/>
            <a:ext cx="73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ют соседку желу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ходящуюся с правой стороны от н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10040" y="1989000"/>
            <a:ext cx="3369240" cy="642600"/>
            <a:chOff x="2210040" y="1989000"/>
            <a:chExt cx="3369240" cy="642600"/>
          </a:xfrm>
        </p:grpSpPr>
        <p:sp>
          <p:nvSpPr>
            <p:cNvPr id="341" name=""/>
            <p:cNvSpPr/>
            <p:nvPr/>
          </p:nvSpPr>
          <p:spPr>
            <a:xfrm>
              <a:off x="2210040" y="198900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11360" y="198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9420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55800" y="198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27120" y="1989000"/>
              <a:ext cx="45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95360" y="5651640"/>
            <a:ext cx="50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 помощи какого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уществляется дых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1640" y="836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19280" y="2060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70828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789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43700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5013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418200" y="2565360"/>
            <a:ext cx="2742840" cy="642600"/>
            <a:chOff x="3418200" y="2565360"/>
            <a:chExt cx="2742840" cy="642600"/>
          </a:xfrm>
        </p:grpSpPr>
        <p:sp>
          <p:nvSpPr>
            <p:cNvPr id="354" name=""/>
            <p:cNvSpPr/>
            <p:nvPr/>
          </p:nvSpPr>
          <p:spPr>
            <a:xfrm>
              <a:off x="341820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5360" y="2565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6800" y="2565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8360" y="256536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292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033560" y="5589720"/>
            <a:ext cx="76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внутренний орган гонит кр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осуды и заставляет её обегать всё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125360" y="3716280"/>
            <a:ext cx="3306960" cy="642600"/>
            <a:chOff x="1125360" y="3716280"/>
            <a:chExt cx="3306960" cy="642600"/>
          </a:xfrm>
        </p:grpSpPr>
        <p:sp>
          <p:nvSpPr>
            <p:cNvPr id="361" name=""/>
            <p:cNvSpPr/>
            <p:nvPr/>
          </p:nvSpPr>
          <p:spPr>
            <a:xfrm>
              <a:off x="1125360" y="37162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9092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1440" y="37162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17840" y="37162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9420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48400" y="5589720"/>
            <a:ext cx="70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т орган называют «г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мандным пунктом всего организ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194920" y="4292640"/>
            <a:ext cx="2189160" cy="642600"/>
            <a:chOff x="2194920" y="4292640"/>
            <a:chExt cx="2189160" cy="642600"/>
          </a:xfrm>
        </p:grpSpPr>
        <p:sp>
          <p:nvSpPr>
            <p:cNvPr id="368" name=""/>
            <p:cNvSpPr/>
            <p:nvPr/>
          </p:nvSpPr>
          <p:spPr>
            <a:xfrm>
              <a:off x="2194920" y="429264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0280" y="4292640"/>
              <a:ext cx="40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05360" y="4292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37880" y="5661000"/>
            <a:ext cx="59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орган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хож на извилистый лабирин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76440" y="4869000"/>
            <a:ext cx="3917160" cy="642600"/>
            <a:chOff x="3376440" y="4869000"/>
            <a:chExt cx="3917160" cy="642600"/>
          </a:xfrm>
        </p:grpSpPr>
        <p:sp>
          <p:nvSpPr>
            <p:cNvPr id="373" name=""/>
            <p:cNvSpPr/>
            <p:nvPr/>
          </p:nvSpPr>
          <p:spPr>
            <a:xfrm>
              <a:off x="337644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6960" y="48690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0560" y="486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2160" y="486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8520" y="486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0072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706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iencemagic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ag=moz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ealth.km.ru/F1C14F04B1324349B4E471E92C7E3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cx.com.ua/my_files/ru/anatomy_of_heart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900igr.net/kartinki/chelovek/_Organy-tela.files/011-ZHeludo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doktor-mozg.ru/page/3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biovitaclub.ru/product/EZ-10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doctoram.net/content/znaete-li-vy-gde-naxoditsya-pechen-u-chelovek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Панова Оксан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АОУ «Гимназия №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г. Великого Нов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ерсональ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http://www.panowa-ox.naro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6040" y="5373360"/>
            <a:ext cx="78692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Рассмотрите схем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и попробуйте её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3640" y="1484280"/>
            <a:ext cx="93672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484280"/>
            <a:ext cx="9367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2276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349360"/>
            <a:ext cx="2953080" cy="6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06960" y="2349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535640" cy="455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ешнее стро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это устройство тела человека снаружи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К внешнему строению человека относятся следующи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асти тел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160960" cy="518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240" y="162864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472428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Туло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1640" y="29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59960" y="25653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300720" y="4076640"/>
            <a:ext cx="71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227280" y="5084640"/>
            <a:ext cx="79236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40000" y="198900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9280" y="1989000"/>
            <a:ext cx="50472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6480" y="148428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рх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3400" y="609300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иж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59280" y="558936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635280" y="530064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85264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1360" y="2565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р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1040" y="3357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11640" y="3789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87760" y="34290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п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6680" y="270504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ее 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602100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Тело человека внутри состоит из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рганов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672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С помощью рисунка на стр. 7 учебника познакомься с внутренними орган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Обрати внимание на их рас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563920" cy="3384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1928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626920" y="19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156672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789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40000" y="429264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050920" y="4653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00000" y="5013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40000" y="5661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0040" y="34527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55200" y="40291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77680" y="431784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1200" y="47498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9600" y="53974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1944720" cy="35272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46680" y="270828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75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1000" y="27082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573360"/>
            <a:ext cx="439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ной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2:20:41Z</dcterms:created>
  <dc:creator>мама</dc:creator>
  <dc:description/>
  <dc:language>en-US</dc:language>
  <cp:lastModifiedBy>мама</cp:lastModifiedBy>
  <dcterms:modified xsi:type="dcterms:W3CDTF">2011-01-03T13:18:49Z</dcterms:modified>
  <cp:revision>15</cp:revision>
  <dc:subject/>
  <dc:title>Строение  тела человека</dc:title>
</cp:coreProperties>
</file>