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jpeg" ContentType="image/jpeg"/>
  <Override PartName="/ppt/media/image12.png" ContentType="image/png"/>
  <Override PartName="/ppt/media/image4.png" ContentType="image/png"/>
  <Override PartName="/ppt/media/image5.jpeg" ContentType="image/jpeg"/>
  <Override PartName="/ppt/media/image3.gif" ContentType="image/gif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0E56-93DF-40A3-B3E3-FCA85263C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BD15-7C18-4515-A458-631B5A81B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9D49-D0F3-4EA9-BFF0-BF286A818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85D6-CAEC-417A-8698-DCC983D5D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DE8B9-E87A-4534-A8C6-C3637B459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69B53-3B52-45E7-A037-98FFFCC71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58F37-53F3-40B7-856F-5E5DD3E0C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88144-06D3-4825-8676-5F34E0A1C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F4337-F155-4E95-8FD4-AC218B71A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2191F-0888-435B-BBC9-36B4C37C0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599DC-F3E5-4683-9CEA-2486A0B33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3687-1DEE-4537-9F3E-F475796BF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97E75-71F7-4113-873B-18D5E2963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CDEC2-2FF8-4079-9815-1719D758F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2D218-1379-4B2C-AF6C-27A176772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8F767-D3B1-460B-82AE-3B0F60690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EA20B-B7AA-4571-B9AA-13A85F437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A7C8-24BD-4934-A892-9A8AD6A78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DB3C-4679-4709-AE19-3B7D0DF63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3BB6-9D70-4A8D-BA1E-424B7F5AA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902D-3069-4A89-8B13-B3048ED72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A8DA-D3FF-4C6C-ACB2-03EBA40AF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983A-64A6-401C-B5AA-5A8F9A7D0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0E14-3753-4F29-811E-AE9C6047E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 flipH="1">
            <a:off x="0" y="0"/>
            <a:ext cx="838080" cy="6858000"/>
          </a:xfrm>
          <a:prstGeom prst="pie">
            <a:avLst/>
          </a:prstGeom>
          <a:solidFill>
            <a:srgbClr val="5da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rot="5400000">
            <a:off x="4495680" y="2209680"/>
            <a:ext cx="152280" cy="9144000"/>
          </a:xfrm>
          <a:prstGeom prst="rect">
            <a:avLst/>
          </a:prstGeom>
          <a:gradFill rotWithShape="0">
            <a:gsLst>
              <a:gs pos="0">
                <a:srgbClr val="00172f"/>
              </a:gs>
              <a:gs pos="50000">
                <a:srgbClr val="003366"/>
              </a:gs>
              <a:gs pos="100000">
                <a:srgbClr val="00172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rot="5400000">
            <a:off x="4534560" y="-3189960"/>
            <a:ext cx="74520" cy="9144000"/>
          </a:xfrm>
          <a:prstGeom prst="rect">
            <a:avLst/>
          </a:prstGeom>
          <a:gradFill rotWithShape="0">
            <a:gsLst>
              <a:gs pos="0">
                <a:srgbClr val="00172f"/>
              </a:gs>
              <a:gs pos="50000">
                <a:srgbClr val="003366"/>
              </a:gs>
              <a:gs pos="100000">
                <a:srgbClr val="00172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8B7A7-5982-4A8C-8478-6E382FE0F1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олилиния 12"/>
          <p:cNvSpPr/>
          <p:nvPr/>
        </p:nvSpPr>
        <p:spPr>
          <a:xfrm flipH="1">
            <a:off x="-720" y="0"/>
            <a:ext cx="2438280" cy="6858000"/>
          </a:xfrm>
          <a:prstGeom prst="pie">
            <a:avLst/>
          </a:prstGeom>
          <a:solidFill>
            <a:srgbClr val="5da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1523880"/>
            <a:ext cx="3029040" cy="403884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49" name=""/>
          <p:cNvSpPr/>
          <p:nvPr/>
        </p:nvSpPr>
        <p:spPr>
          <a:xfrm rot="5400000">
            <a:off x="4395600" y="1166760"/>
            <a:ext cx="352440" cy="9144000"/>
          </a:xfrm>
          <a:prstGeom prst="rect">
            <a:avLst/>
          </a:prstGeom>
          <a:gradFill rotWithShape="0">
            <a:gsLst>
              <a:gs pos="0">
                <a:srgbClr val="00172f"/>
              </a:gs>
              <a:gs pos="50000">
                <a:srgbClr val="003366"/>
              </a:gs>
              <a:gs pos="100000">
                <a:srgbClr val="00172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5400000">
            <a:off x="4510080" y="-3138480"/>
            <a:ext cx="123840" cy="9144000"/>
          </a:xfrm>
          <a:prstGeom prst="rect">
            <a:avLst/>
          </a:prstGeom>
          <a:gradFill rotWithShape="0">
            <a:gsLst>
              <a:gs pos="0">
                <a:srgbClr val="00172f"/>
              </a:gs>
              <a:gs pos="50000">
                <a:srgbClr val="003366"/>
              </a:gs>
              <a:gs pos="100000">
                <a:srgbClr val="00172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8305920" y="0"/>
            <a:ext cx="539640" cy="13622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24080" y="17524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0B984-F0FC-44FC-8C4B-8D402832CA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sciencemagic.ru/?tag=mozg" TargetMode="External"/><Relationship Id="rId2" Type="http://schemas.openxmlformats.org/officeDocument/2006/relationships/hyperlink" Target="http://sciencemagic.ru/?tag=mozg" TargetMode="External"/><Relationship Id="rId3" Type="http://schemas.openxmlformats.org/officeDocument/2006/relationships/hyperlink" Target="http://sciencemagic.ru/?tag=mozg" TargetMode="External"/><Relationship Id="rId4" Type="http://schemas.openxmlformats.org/officeDocument/2006/relationships/hyperlink" Target="http://sciencemagic.ru/?tag=mozg" TargetMode="External"/><Relationship Id="rId5" Type="http://schemas.openxmlformats.org/officeDocument/2006/relationships/hyperlink" Target="http://sciencemagic.ru/?tag=mozg" TargetMode="External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124080" y="1916280"/>
            <a:ext cx="601992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Строение 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тела челове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635280" y="4255560"/>
            <a:ext cx="4648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Окружающий ми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2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            </a:t>
            </a:r>
            <a:r>
              <a:rPr b="0" lang="ru-RU" sz="4400" spc="-1" strike="noStrike">
                <a:solidFill>
                  <a:srgbClr val="000099"/>
                </a:solidFill>
                <a:latin typeface="Comic Sans MS"/>
              </a:rPr>
              <a:t>Головной мозг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995280" y="2172960"/>
            <a:ext cx="521964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Головной мозг – эт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главный команд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пункт организма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Всеми вашими мыслям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чувствами, движения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управляет моз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376236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Лёгк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780000" y="1600200"/>
            <a:ext cx="52560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Дыхание человека происхо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дит при помощи лёгких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которые находятся в груд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Лёгкие похожи на губк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При выдохе они выпускаю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из себя воздух и уменьшают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ся в размере. Когда мы дела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ем вдох, лёгкие наполняют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ся воздухом и расширяю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1700280"/>
            <a:ext cx="424800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Сердц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770280" y="1600200"/>
            <a:ext cx="5122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ердце находится в груди человека. Размером оно всего с кулак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ердце – неутомимый мотор, который непрерывно гонит в сосуды кровь и заставляет её обегать всё те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35938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064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Желудок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 –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главное отделение «внутренней кухни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780000" y="1483920"/>
            <a:ext cx="5364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Желудок находится в верх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ней части живота (под рёбра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ми) с левой стороны. Когда 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него попадает пища, он рас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тягиваетс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Чем больше пищи мы съе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даем, тем сильнее растягива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ется желудо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В желудке пища перераба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тывается, но  лишь наполо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ви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1700280"/>
            <a:ext cx="38019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Кишечник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348000" y="1600200"/>
            <a:ext cx="57960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з желудка пища отправляет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я в длинное путешествие п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звилистому кишечнику. О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янется почти на 8 метров. Только после того как пищ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ойдёт этот путь, она превра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ится в прозрачные растворы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оторые может впитать в себ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ровь и разнести по всем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рганизм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3586320" cy="572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Печен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924000" y="1628640"/>
            <a:ext cx="52196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Печень живёт с пра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вой стороны от желуд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ка в верхней ча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живо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Она вырабатыва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желчь, которая поступа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ет в кишечник и помога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ет переваривать пищу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3909960" cy="39592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 flipH="1">
            <a:off x="1835280" y="1125360"/>
            <a:ext cx="2449440" cy="1872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Части тел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03640" y="1989000"/>
            <a:ext cx="57636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2050920" y="2565360"/>
            <a:ext cx="2881440" cy="576360"/>
            <a:chOff x="2050920" y="2565360"/>
            <a:chExt cx="2881440" cy="576360"/>
          </a:xfrm>
        </p:grpSpPr>
        <p:sp>
          <p:nvSpPr>
            <p:cNvPr id="198" name=""/>
            <p:cNvSpPr/>
            <p:nvPr/>
          </p:nvSpPr>
          <p:spPr>
            <a:xfrm>
              <a:off x="3203280" y="2565360"/>
              <a:ext cx="576360" cy="57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356000" y="2565360"/>
              <a:ext cx="576360" cy="57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779640" y="2565360"/>
              <a:ext cx="576360" cy="57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050920" y="2565360"/>
              <a:ext cx="576360" cy="57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627280" y="2565360"/>
              <a:ext cx="576000" cy="57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2050920" y="3139920"/>
            <a:ext cx="3457440" cy="576360"/>
            <a:chOff x="2050920" y="3139920"/>
            <a:chExt cx="3457440" cy="576360"/>
          </a:xfrm>
        </p:grpSpPr>
        <p:sp>
          <p:nvSpPr>
            <p:cNvPr id="204" name=""/>
            <p:cNvSpPr/>
            <p:nvPr/>
          </p:nvSpPr>
          <p:spPr>
            <a:xfrm>
              <a:off x="2050920" y="3139920"/>
              <a:ext cx="576360" cy="57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627280" y="3139920"/>
              <a:ext cx="576000" cy="57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932000" y="3139920"/>
              <a:ext cx="576360" cy="57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356000" y="3139920"/>
              <a:ext cx="576000" cy="57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79640" y="3139920"/>
              <a:ext cx="576360" cy="57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203280" y="3139920"/>
              <a:ext cx="576360" cy="57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2627280" y="3716280"/>
            <a:ext cx="5761080" cy="576000"/>
            <a:chOff x="2627280" y="3716280"/>
            <a:chExt cx="5761080" cy="576000"/>
          </a:xfrm>
        </p:grpSpPr>
        <p:sp>
          <p:nvSpPr>
            <p:cNvPr id="211" name=""/>
            <p:cNvSpPr/>
            <p:nvPr/>
          </p:nvSpPr>
          <p:spPr>
            <a:xfrm>
              <a:off x="2627280" y="3716280"/>
              <a:ext cx="57636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812000" y="3716280"/>
              <a:ext cx="57636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235640" y="3716280"/>
              <a:ext cx="57636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661080" y="3716280"/>
              <a:ext cx="57636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084720" y="3716280"/>
              <a:ext cx="57636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508360" y="3716280"/>
              <a:ext cx="57636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932360" y="3716280"/>
              <a:ext cx="57600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356000" y="3716280"/>
              <a:ext cx="57636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779640" y="3716280"/>
              <a:ext cx="57636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203640" y="3716280"/>
              <a:ext cx="57600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2050920" y="4292640"/>
            <a:ext cx="2881440" cy="576360"/>
            <a:chOff x="2050920" y="4292640"/>
            <a:chExt cx="2881440" cy="576360"/>
          </a:xfrm>
        </p:grpSpPr>
        <p:sp>
          <p:nvSpPr>
            <p:cNvPr id="222" name=""/>
            <p:cNvSpPr/>
            <p:nvPr/>
          </p:nvSpPr>
          <p:spPr>
            <a:xfrm>
              <a:off x="2050920" y="4292640"/>
              <a:ext cx="576360" cy="57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356000" y="4292640"/>
              <a:ext cx="576360" cy="57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780000" y="4292640"/>
              <a:ext cx="576000" cy="57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203640" y="4292640"/>
              <a:ext cx="576360" cy="57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27280" y="4292640"/>
              <a:ext cx="576360" cy="57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2050920" y="4869000"/>
            <a:ext cx="2881440" cy="576000"/>
            <a:chOff x="2050920" y="4869000"/>
            <a:chExt cx="2881440" cy="576000"/>
          </a:xfrm>
        </p:grpSpPr>
        <p:sp>
          <p:nvSpPr>
            <p:cNvPr id="228" name=""/>
            <p:cNvSpPr/>
            <p:nvPr/>
          </p:nvSpPr>
          <p:spPr>
            <a:xfrm>
              <a:off x="4356000" y="4869000"/>
              <a:ext cx="57636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780000" y="4869000"/>
              <a:ext cx="57600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203640" y="4869000"/>
              <a:ext cx="57636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627280" y="4869000"/>
              <a:ext cx="57636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050920" y="4869000"/>
              <a:ext cx="57636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3203640" y="5445000"/>
            <a:ext cx="57636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2627280" y="6021360"/>
            <a:ext cx="1728720" cy="576000"/>
            <a:chOff x="2627280" y="6021360"/>
            <a:chExt cx="1728720" cy="576000"/>
          </a:xfrm>
        </p:grpSpPr>
        <p:sp>
          <p:nvSpPr>
            <p:cNvPr id="235" name=""/>
            <p:cNvSpPr/>
            <p:nvPr/>
          </p:nvSpPr>
          <p:spPr>
            <a:xfrm>
              <a:off x="3780000" y="6021360"/>
              <a:ext cx="57600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627280" y="6021360"/>
              <a:ext cx="57636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3640" y="6021360"/>
              <a:ext cx="57636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2134800" y="2440080"/>
            <a:ext cx="40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2681640" y="2440080"/>
            <a:ext cx="2203920" cy="703440"/>
            <a:chOff x="2681640" y="2440080"/>
            <a:chExt cx="2203920" cy="703440"/>
          </a:xfrm>
        </p:grpSpPr>
        <p:sp>
          <p:nvSpPr>
            <p:cNvPr id="240" name=""/>
            <p:cNvSpPr/>
            <p:nvPr/>
          </p:nvSpPr>
          <p:spPr>
            <a:xfrm>
              <a:off x="2681640" y="2440080"/>
              <a:ext cx="493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р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281400" y="2440080"/>
              <a:ext cx="439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у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856680" y="2440080"/>
              <a:ext cx="474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д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403160" y="2440080"/>
              <a:ext cx="482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ь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1332000" y="256536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332000" y="314172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124000" y="3789360"/>
            <a:ext cx="43020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332000" y="429264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332000" y="494172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979640" y="602136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134800" y="3014640"/>
            <a:ext cx="40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2698920" y="3011400"/>
            <a:ext cx="2760120" cy="706680"/>
            <a:chOff x="2698920" y="3011400"/>
            <a:chExt cx="2760120" cy="706680"/>
          </a:xfrm>
        </p:grpSpPr>
        <p:sp>
          <p:nvSpPr>
            <p:cNvPr id="252" name=""/>
            <p:cNvSpPr/>
            <p:nvPr/>
          </p:nvSpPr>
          <p:spPr>
            <a:xfrm>
              <a:off x="2698920" y="3014640"/>
              <a:ext cx="487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о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296160" y="3011400"/>
              <a:ext cx="473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л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849840" y="3014640"/>
              <a:ext cx="487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о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10720" y="3014640"/>
              <a:ext cx="473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в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993200" y="3014640"/>
              <a:ext cx="465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а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2693520" y="3645000"/>
            <a:ext cx="44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3275280" y="3591000"/>
            <a:ext cx="5117040" cy="703440"/>
            <a:chOff x="3275280" y="3591000"/>
            <a:chExt cx="5117040" cy="703440"/>
          </a:xfrm>
        </p:grpSpPr>
        <p:sp>
          <p:nvSpPr>
            <p:cNvPr id="259" name=""/>
            <p:cNvSpPr/>
            <p:nvPr/>
          </p:nvSpPr>
          <p:spPr>
            <a:xfrm>
              <a:off x="3275280" y="3591000"/>
              <a:ext cx="487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о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833640" y="3591000"/>
              <a:ext cx="503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н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434480" y="3591000"/>
              <a:ext cx="467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е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985640" y="3591000"/>
              <a:ext cx="49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ч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562360" y="3591000"/>
              <a:ext cx="503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н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154920" y="3591000"/>
              <a:ext cx="487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о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742440" y="3591000"/>
              <a:ext cx="424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с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235640" y="3591000"/>
              <a:ext cx="42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885440" y="3591000"/>
              <a:ext cx="506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и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035440" y="4240080"/>
            <a:ext cx="56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2700720" y="4222800"/>
            <a:ext cx="2149560" cy="720720"/>
            <a:chOff x="2700720" y="4222800"/>
            <a:chExt cx="2149560" cy="720720"/>
          </a:xfrm>
        </p:grpSpPr>
        <p:sp>
          <p:nvSpPr>
            <p:cNvPr id="270" name=""/>
            <p:cNvSpPr/>
            <p:nvPr/>
          </p:nvSpPr>
          <p:spPr>
            <a:xfrm>
              <a:off x="2700720" y="4240080"/>
              <a:ext cx="506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и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259800" y="4222800"/>
              <a:ext cx="473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в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849840" y="4222800"/>
              <a:ext cx="487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о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427280" y="4222800"/>
              <a:ext cx="42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2134080" y="4797360"/>
            <a:ext cx="42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2707560" y="4797360"/>
            <a:ext cx="2175120" cy="703440"/>
            <a:chOff x="2707560" y="4797360"/>
            <a:chExt cx="2175120" cy="703440"/>
          </a:xfrm>
        </p:grpSpPr>
        <p:sp>
          <p:nvSpPr>
            <p:cNvPr id="276" name=""/>
            <p:cNvSpPr/>
            <p:nvPr/>
          </p:nvSpPr>
          <p:spPr>
            <a:xfrm>
              <a:off x="2707560" y="4797360"/>
              <a:ext cx="497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п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277080" y="4797360"/>
              <a:ext cx="506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и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833640" y="4797360"/>
              <a:ext cx="503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н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416840" y="4797360"/>
              <a:ext cx="465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а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2597400" y="5967360"/>
            <a:ext cx="6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3274200" y="5967360"/>
            <a:ext cx="1029960" cy="703440"/>
            <a:chOff x="3274200" y="5967360"/>
            <a:chExt cx="1029960" cy="703440"/>
          </a:xfrm>
        </p:grpSpPr>
        <p:sp>
          <p:nvSpPr>
            <p:cNvPr id="282" name=""/>
            <p:cNvSpPr/>
            <p:nvPr/>
          </p:nvSpPr>
          <p:spPr>
            <a:xfrm>
              <a:off x="3274200" y="5967360"/>
              <a:ext cx="467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е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840120" y="5967360"/>
              <a:ext cx="464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я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203640" y="1484280"/>
            <a:ext cx="504720" cy="5047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3177000" y="1916280"/>
            <a:ext cx="640800" cy="4160880"/>
            <a:chOff x="3177000" y="1916280"/>
            <a:chExt cx="640800" cy="4160880"/>
          </a:xfrm>
        </p:grpSpPr>
        <p:sp>
          <p:nvSpPr>
            <p:cNvPr id="286" name=""/>
            <p:cNvSpPr/>
            <p:nvPr/>
          </p:nvSpPr>
          <p:spPr>
            <a:xfrm>
              <a:off x="3177000" y="5373720"/>
              <a:ext cx="640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щ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285000" y="1916280"/>
              <a:ext cx="42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6804000" y="0"/>
            <a:ext cx="2098800" cy="3805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6" dur="indefinite" restart="never" nodeType="tmRoot">
          <p:childTnLst>
            <p:seq>
              <p:cTn id="277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278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3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284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9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290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5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296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1" restart="whenNotActive" nodeType="interactiveSeq" fill="hold">
                <p:stCondLst>
                  <p:cond evt="onClick">
                    <p:tgtEl>
                      <p:spTgt spid="248"/>
                    </p:tgtEl>
                  </p:cond>
                </p:stCondLst>
                <p:childTnLst>
                  <p:par>
                    <p:cTn id="302" fill="hold">
                      <p:stCondLst>
                        <p:cond evt="onClick">
                          <p:tgtEl>
                            <p:spTgt spid="248"/>
                          </p:tgtEl>
                        </p:cond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7" restart="whenNotActive" nodeType="interactiveSeq" fill="hold">
                <p:stCondLst>
                  <p:cond evt="onClick">
                    <p:tgtEl>
                      <p:spTgt spid="249"/>
                    </p:tgtEl>
                  </p:cond>
                </p:stCondLst>
                <p:childTnLst>
                  <p:par>
                    <p:cTn id="308" fill="hold">
                      <p:stCondLst>
                        <p:cond evt="onClick">
                          <p:tgtEl>
                            <p:spTgt spid="249"/>
                          </p:tgtEl>
                        </p:cond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3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314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6084720" y="0"/>
            <a:ext cx="3275280" cy="465120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028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    </a:t>
            </a: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Внутренние орган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771640" y="3214800"/>
            <a:ext cx="576360" cy="574560"/>
          </a:xfrm>
          <a:prstGeom prst="rect">
            <a:avLst/>
          </a:prstGeom>
          <a:solidFill>
            <a:srgbClr val="47c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71640" y="1484280"/>
            <a:ext cx="576360" cy="574560"/>
          </a:xfrm>
          <a:prstGeom prst="rect">
            <a:avLst/>
          </a:prstGeom>
          <a:solidFill>
            <a:srgbClr val="47c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2195640" y="2060640"/>
            <a:ext cx="3457440" cy="574560"/>
            <a:chOff x="2195640" y="2060640"/>
            <a:chExt cx="3457440" cy="574560"/>
          </a:xfrm>
        </p:grpSpPr>
        <p:sp>
          <p:nvSpPr>
            <p:cNvPr id="294" name=""/>
            <p:cNvSpPr/>
            <p:nvPr/>
          </p:nvSpPr>
          <p:spPr>
            <a:xfrm>
              <a:off x="2771640" y="2060640"/>
              <a:ext cx="57636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348000" y="2060640"/>
              <a:ext cx="57636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195640" y="2060640"/>
              <a:ext cx="57600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076720" y="2060640"/>
              <a:ext cx="57636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500720" y="2060640"/>
              <a:ext cx="57600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924360" y="2060640"/>
              <a:ext cx="57636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771640" y="2637000"/>
            <a:ext cx="3456000" cy="574560"/>
            <a:chOff x="2771640" y="2637000"/>
            <a:chExt cx="3456000" cy="574560"/>
          </a:xfrm>
        </p:grpSpPr>
        <p:sp>
          <p:nvSpPr>
            <p:cNvPr id="301" name=""/>
            <p:cNvSpPr/>
            <p:nvPr/>
          </p:nvSpPr>
          <p:spPr>
            <a:xfrm>
              <a:off x="2771640" y="2637000"/>
              <a:ext cx="57636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651640" y="2637000"/>
              <a:ext cx="57600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076720" y="2637000"/>
              <a:ext cx="57636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500720" y="2637000"/>
              <a:ext cx="57600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924360" y="2637000"/>
              <a:ext cx="57636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348000" y="2637000"/>
              <a:ext cx="57636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1042920" y="3789360"/>
            <a:ext cx="3457800" cy="574560"/>
            <a:chOff x="1042920" y="3789360"/>
            <a:chExt cx="3457800" cy="574560"/>
          </a:xfrm>
        </p:grpSpPr>
        <p:sp>
          <p:nvSpPr>
            <p:cNvPr id="308" name=""/>
            <p:cNvSpPr/>
            <p:nvPr/>
          </p:nvSpPr>
          <p:spPr>
            <a:xfrm>
              <a:off x="2771640" y="3789360"/>
              <a:ext cx="57636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042920" y="3789360"/>
              <a:ext cx="57636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619280" y="3789360"/>
              <a:ext cx="57636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195640" y="3789360"/>
              <a:ext cx="57600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924360" y="3789360"/>
              <a:ext cx="57636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348000" y="3789360"/>
              <a:ext cx="57636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2195640" y="4365720"/>
            <a:ext cx="2305080" cy="574560"/>
            <a:chOff x="2195640" y="4365720"/>
            <a:chExt cx="2305080" cy="574560"/>
          </a:xfrm>
        </p:grpSpPr>
        <p:sp>
          <p:nvSpPr>
            <p:cNvPr id="315" name=""/>
            <p:cNvSpPr/>
            <p:nvPr/>
          </p:nvSpPr>
          <p:spPr>
            <a:xfrm>
              <a:off x="3924360" y="4365720"/>
              <a:ext cx="57636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348000" y="4365720"/>
              <a:ext cx="57636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195640" y="4365720"/>
              <a:ext cx="57600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771640" y="4365720"/>
              <a:ext cx="57636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2771640" y="4941720"/>
            <a:ext cx="4608720" cy="574920"/>
            <a:chOff x="2771640" y="4941720"/>
            <a:chExt cx="4608720" cy="574920"/>
          </a:xfrm>
        </p:grpSpPr>
        <p:sp>
          <p:nvSpPr>
            <p:cNvPr id="320" name=""/>
            <p:cNvSpPr/>
            <p:nvPr/>
          </p:nvSpPr>
          <p:spPr>
            <a:xfrm>
              <a:off x="6804000" y="4941720"/>
              <a:ext cx="576360" cy="57492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227640" y="4941720"/>
              <a:ext cx="576360" cy="57492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651640" y="4941720"/>
              <a:ext cx="576000" cy="57492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076720" y="4941720"/>
              <a:ext cx="576360" cy="57492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500720" y="4941720"/>
              <a:ext cx="576000" cy="57492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924360" y="4941720"/>
              <a:ext cx="576360" cy="57492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348000" y="4941720"/>
              <a:ext cx="576360" cy="57492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771640" y="4941720"/>
              <a:ext cx="576360" cy="57492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7596360" y="5013360"/>
            <a:ext cx="1331640" cy="503280"/>
          </a:xfrm>
          <a:prstGeom prst="rect">
            <a:avLst/>
          </a:prstGeom>
          <a:solidFill>
            <a:srgbClr val="ffcc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116000" y="5661000"/>
            <a:ext cx="7416720" cy="863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688040" y="5651640"/>
            <a:ext cx="6334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ак называется главное отде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«внутренней кухни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2829960" y="1413000"/>
            <a:ext cx="523800" cy="4098600"/>
            <a:chOff x="2829960" y="1413000"/>
            <a:chExt cx="523800" cy="4098600"/>
          </a:xfrm>
        </p:grpSpPr>
        <p:sp>
          <p:nvSpPr>
            <p:cNvPr id="332" name=""/>
            <p:cNvSpPr/>
            <p:nvPr/>
          </p:nvSpPr>
          <p:spPr>
            <a:xfrm>
              <a:off x="2829960" y="1413000"/>
              <a:ext cx="52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ж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841840" y="1989000"/>
              <a:ext cx="43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868840" y="2565360"/>
              <a:ext cx="444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л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920320" y="3141720"/>
              <a:ext cx="41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у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847960" y="3716280"/>
              <a:ext cx="446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д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841480" y="4292640"/>
              <a:ext cx="45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о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836800" y="4869000"/>
              <a:ext cx="42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к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1213560" y="5589720"/>
            <a:ext cx="7323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ак называют соседку желудк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находящуюся с правой стороны от нег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2210040" y="1989000"/>
            <a:ext cx="3369240" cy="642600"/>
            <a:chOff x="2210040" y="1989000"/>
            <a:chExt cx="3369240" cy="642600"/>
          </a:xfrm>
        </p:grpSpPr>
        <p:sp>
          <p:nvSpPr>
            <p:cNvPr id="341" name=""/>
            <p:cNvSpPr/>
            <p:nvPr/>
          </p:nvSpPr>
          <p:spPr>
            <a:xfrm>
              <a:off x="2210040" y="1989000"/>
              <a:ext cx="46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п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411360" y="1989000"/>
              <a:ext cx="461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ч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994200" y="1989000"/>
              <a:ext cx="43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555800" y="1989000"/>
              <a:ext cx="471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н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127120" y="1989000"/>
              <a:ext cx="45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ь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2295360" y="5651640"/>
            <a:ext cx="5001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ри помощи какого орг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существляется дыха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771640" y="836640"/>
            <a:ext cx="503280" cy="5047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619280" y="2060640"/>
            <a:ext cx="503280" cy="5047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195640" y="2708280"/>
            <a:ext cx="503280" cy="5047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68360" y="3789360"/>
            <a:ext cx="503280" cy="5047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547640" y="4437000"/>
            <a:ext cx="503280" cy="5047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195640" y="5013360"/>
            <a:ext cx="503280" cy="5047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3418200" y="2565360"/>
            <a:ext cx="2742840" cy="642600"/>
            <a:chOff x="3418200" y="2565360"/>
            <a:chExt cx="2742840" cy="642600"/>
          </a:xfrm>
        </p:grpSpPr>
        <p:sp>
          <p:nvSpPr>
            <p:cNvPr id="354" name=""/>
            <p:cNvSpPr/>
            <p:nvPr/>
          </p:nvSpPr>
          <p:spPr>
            <a:xfrm>
              <a:off x="3418200" y="2565360"/>
              <a:ext cx="43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ё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005360" y="256536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636800" y="2565360"/>
              <a:ext cx="42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к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48360" y="2565360"/>
              <a:ext cx="474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и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722920" y="2565360"/>
              <a:ext cx="43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1033560" y="5589720"/>
            <a:ext cx="765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акой внутренний орган гонит кров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 сосуды и заставляет её обегать всё тел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1125360" y="3716280"/>
            <a:ext cx="3306960" cy="642600"/>
            <a:chOff x="1125360" y="3716280"/>
            <a:chExt cx="3306960" cy="642600"/>
          </a:xfrm>
        </p:grpSpPr>
        <p:sp>
          <p:nvSpPr>
            <p:cNvPr id="361" name=""/>
            <p:cNvSpPr/>
            <p:nvPr/>
          </p:nvSpPr>
          <p:spPr>
            <a:xfrm>
              <a:off x="1125360" y="3716280"/>
              <a:ext cx="400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с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690920" y="3716280"/>
              <a:ext cx="43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251440" y="3716280"/>
              <a:ext cx="462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р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417840" y="3716280"/>
              <a:ext cx="470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ц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994200" y="3716280"/>
              <a:ext cx="43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48400" y="5589720"/>
            <a:ext cx="708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Этот орган называют «главны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омандным пунктом всего организм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2194920" y="4292640"/>
            <a:ext cx="2189160" cy="642600"/>
            <a:chOff x="2194920" y="4292640"/>
            <a:chExt cx="2189160" cy="642600"/>
          </a:xfrm>
        </p:grpSpPr>
        <p:sp>
          <p:nvSpPr>
            <p:cNvPr id="368" name=""/>
            <p:cNvSpPr/>
            <p:nvPr/>
          </p:nvSpPr>
          <p:spPr>
            <a:xfrm>
              <a:off x="2194920" y="4292640"/>
              <a:ext cx="52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м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410280" y="4292640"/>
              <a:ext cx="40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з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005360" y="429264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1937880" y="5661000"/>
            <a:ext cx="5972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акой орган «внутренней кухн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охож на извилистый лабирин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3376440" y="4869000"/>
            <a:ext cx="3917160" cy="642600"/>
            <a:chOff x="3376440" y="4869000"/>
            <a:chExt cx="3917160" cy="642600"/>
          </a:xfrm>
        </p:grpSpPr>
        <p:sp>
          <p:nvSpPr>
            <p:cNvPr id="373" name=""/>
            <p:cNvSpPr/>
            <p:nvPr/>
          </p:nvSpPr>
          <p:spPr>
            <a:xfrm>
              <a:off x="3376440" y="4869000"/>
              <a:ext cx="474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и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936960" y="4869000"/>
              <a:ext cx="590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ш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570560" y="4869000"/>
              <a:ext cx="43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132160" y="4869000"/>
              <a:ext cx="461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ч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708520" y="4869000"/>
              <a:ext cx="471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н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300720" y="4869000"/>
              <a:ext cx="474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и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870600" y="4869000"/>
              <a:ext cx="42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к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19" dur="indefinite" restart="never" nodeType="tmRoot">
          <p:childTnLst>
            <p:seq>
              <p:cTn id="320" restart="whenNotActive" nodeType="interactiveSeq" fill="hold">
                <p:stCondLst>
                  <p:cond evt="onClick">
                    <p:tgtEl>
                      <p:spTgt spid="347"/>
                    </p:tgtEl>
                  </p:cond>
                </p:stCondLst>
                <p:childTnLst>
                  <p:par>
                    <p:cTn id="321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5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8" dur="5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9" restart="whenNotActive" nodeType="interactiveSeq" fill="hold">
                <p:stCondLst>
                  <p:cond evt="onClick">
                    <p:tgtEl>
                      <p:spTgt spid="328"/>
                    </p:tgtEl>
                  </p:cond>
                </p:stCondLst>
                <p:childTnLst>
                  <p:par>
                    <p:cTn id="330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0" restart="whenNotActive" nodeType="interactiveSeq" fill="hold">
                <p:stCondLst>
                  <p:cond evt="onClick">
                    <p:tgtEl>
                      <p:spTgt spid="348"/>
                    </p:tgtEl>
                  </p:cond>
                </p:stCondLst>
                <p:childTnLst>
                  <p:par>
                    <p:cTn id="361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5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8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3" restart="whenNotActive" nodeType="interactiveSeq" fill="hold">
                <p:stCondLst>
                  <p:cond evt="onClick">
                    <p:tgtEl>
                      <p:spTgt spid="349"/>
                    </p:tgtEl>
                  </p:cond>
                </p:stCondLst>
                <p:childTnLst>
                  <p:par>
                    <p:cTn id="374" fill="hold">
                      <p:stCondLst>
                        <p:cond evt="onClick">
                          <p:tgtEl>
                            <p:spTgt spid="349"/>
                          </p:tgtEl>
                        </p:cond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8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1" dur="5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6" restart="whenNotActive" nodeType="interactiveSeq" fill="hold">
                <p:stCondLst>
                  <p:cond evt="onClick">
                    <p:tgtEl>
                      <p:spTgt spid="350"/>
                    </p:tgtEl>
                  </p:cond>
                </p:stCondLst>
                <p:childTnLst>
                  <p:par>
                    <p:cTn id="387" fill="hold">
                      <p:stCondLst>
                        <p:cond evt="onClick">
                          <p:tgtEl>
                            <p:spTgt spid="350"/>
                          </p:tgtEl>
                        </p:cond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1" dur="5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4" dur="5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9" restart="whenNotActive" nodeType="interactiveSeq" fill="hold">
                <p:stCondLst>
                  <p:cond evt="onClick">
                    <p:tgtEl>
                      <p:spTgt spid="351"/>
                    </p:tgtEl>
                  </p:cond>
                </p:stCondLst>
                <p:childTnLst>
                  <p:par>
                    <p:cTn id="400" fill="hold">
                      <p:stCondLst>
                        <p:cond evt="onClick">
                          <p:tgtEl>
                            <p:spTgt spid="351"/>
                          </p:tgtEl>
                        </p:cond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4" dur="5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7" dur="5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2" restart="whenNotActive" nodeType="interactiveSeq" fill="hold">
                <p:stCondLst>
                  <p:cond evt="onClick">
                    <p:tgtEl>
                      <p:spTgt spid="352"/>
                    </p:tgtEl>
                  </p:cond>
                </p:stCondLst>
                <p:childTnLst>
                  <p:par>
                    <p:cTn id="413" fill="hold">
                      <p:stCondLst>
                        <p:cond evt="onClick">
                          <p:tgtEl>
                            <p:spTgt spid="352"/>
                          </p:tgtEl>
                        </p:cond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7" dur="5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0" dur="50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Источни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sciencemagic.ru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/?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tag=moz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ttp://health.km.ru/F1C14F04B1324349B4E471E92C7E33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ttp://ccx.com.ua/my_files/ru/anatomy_of_heart.ph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ttp://900igr.net/kartinki/chelovek/_Organy-tela.files/011-ZHeludo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ttp://www.doktor-mozg.ru/page/3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ttp://www.biovitaclub.ru/product/EZ-101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ttp://doctoram.net/content/znaete-li-vy-gde-naxoditsya-pechen-u-cheloveka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Monotype Corsiva"/>
              </a:rPr>
              <a:t>Панова Оксана Владимиров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Monotype Corsiva"/>
              </a:rPr>
              <a:t>учитель начальных классо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Monotype Corsiva"/>
              </a:rPr>
              <a:t>МАОУ «Гимназия №4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Monotype Corsiva"/>
              </a:rPr>
              <a:t>г. Великого Новгор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Персональный сай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http://www.panowa-ox.narod.ru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Презентация опубликована на сайте - viki.rdf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   </a:t>
            </a: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Строение тела чело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06040" y="5373360"/>
            <a:ext cx="786924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Рассмотрите схему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и попробуйте её объясн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203640" y="1484280"/>
            <a:ext cx="936720" cy="576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003640" y="1484280"/>
            <a:ext cx="936720" cy="649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1280" y="2276640"/>
            <a:ext cx="3240000" cy="720720"/>
          </a:xfrm>
          <a:prstGeom prst="roundRect">
            <a:avLst>
              <a:gd name="adj" fmla="val 16667"/>
            </a:avLst>
          </a:prstGeom>
          <a:solidFill>
            <a:srgbClr val="6dffc4"/>
          </a:solidFill>
          <a:ln w="38160">
            <a:solidFill>
              <a:srgbClr val="00c4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42920" y="234936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нешн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724360" y="2349360"/>
            <a:ext cx="2953080" cy="6494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06960" y="2349360"/>
            <a:ext cx="256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нутренн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805200" y="1557360"/>
            <a:ext cx="199080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268360" y="2060640"/>
            <a:ext cx="4535640" cy="455616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Внешнее строение -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это устройство тела человека снаружи</a:t>
            </a: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Comic Sans MS"/>
              </a:rPr>
              <a:t>К внешнему строению человека относятся следующие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части тела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195640" y="1484280"/>
            <a:ext cx="5160960" cy="51847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050920" y="1916280"/>
            <a:ext cx="792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15240" y="1628640"/>
            <a:ext cx="140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Го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20000" y="4724280"/>
            <a:ext cx="193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Туловищ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6011640" y="2924280"/>
            <a:ext cx="936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059960" y="2565360"/>
            <a:ext cx="94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Ше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6300720" y="4076640"/>
            <a:ext cx="719280" cy="10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6227280" y="5084640"/>
            <a:ext cx="792360" cy="865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4140000" y="1989000"/>
            <a:ext cx="122364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4859280" y="1989000"/>
            <a:ext cx="504720" cy="165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226480" y="1484280"/>
            <a:ext cx="38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Верхние конеч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913400" y="6093000"/>
            <a:ext cx="374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Нижние конеч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859280" y="5589360"/>
            <a:ext cx="100800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3635280" y="5300640"/>
            <a:ext cx="122400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63640" y="285264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1360" y="2565360"/>
            <a:ext cx="11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Груд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692360" y="3645000"/>
            <a:ext cx="1584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11040" y="3357720"/>
            <a:ext cx="130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Жив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6011640" y="3789360"/>
            <a:ext cx="1152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187760" y="3429000"/>
            <a:ext cx="127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Сп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805200" y="1557360"/>
            <a:ext cx="1990800" cy="36100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   </a:t>
            </a: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Строение тела чело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3634920" y="1484280"/>
            <a:ext cx="792360" cy="432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932360" y="1484280"/>
            <a:ext cx="719280" cy="50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58920" y="1557360"/>
            <a:ext cx="2305080" cy="647640"/>
          </a:xfrm>
          <a:prstGeom prst="roundRect">
            <a:avLst>
              <a:gd name="adj" fmla="val 16667"/>
            </a:avLst>
          </a:prstGeom>
          <a:solidFill>
            <a:srgbClr val="6dffc4"/>
          </a:solidFill>
          <a:ln w="38160">
            <a:solidFill>
              <a:srgbClr val="00c4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87280" y="1557360"/>
            <a:ext cx="22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нешн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724360" y="1557360"/>
            <a:ext cx="2519640" cy="6476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646600" y="1557360"/>
            <a:ext cx="256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нутренн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920" y="3573360"/>
            <a:ext cx="439272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Го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Ше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Туловищ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mic Sans MS"/>
              </a:rPr>
              <a:t>(грудь, живот, спи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Ру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Но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58920" y="2708280"/>
            <a:ext cx="2376360" cy="576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246680" y="2705040"/>
            <a:ext cx="233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Части те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40000" y="2205000"/>
            <a:ext cx="0" cy="503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  </a:t>
            </a: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Внутреннее строе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9280" y="6021000"/>
            <a:ext cx="86043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Тело человека внутри состоит из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органов</a:t>
            </a: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700360" y="1484280"/>
            <a:ext cx="367200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Работа по учебник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51280" y="1600200"/>
            <a:ext cx="483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С помощью рисунка на стр. 7 учебника познакомься с внутренними органами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Обрати внимание на их располож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900000" y="2133720"/>
            <a:ext cx="2563920" cy="338436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    </a:t>
            </a: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Проверь себ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84360" y="1484280"/>
            <a:ext cx="3419280" cy="51847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 flipH="1">
            <a:off x="2626920" y="191628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283360" y="1566720"/>
            <a:ext cx="31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Головной моз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2556000" y="3789360"/>
            <a:ext cx="1800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2340000" y="4292640"/>
            <a:ext cx="3527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2050920" y="4653000"/>
            <a:ext cx="2376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700000" y="5013360"/>
            <a:ext cx="331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340000" y="5661000"/>
            <a:ext cx="201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460040" y="3452760"/>
            <a:ext cx="158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Лёгк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055200" y="4029120"/>
            <a:ext cx="164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Серд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477680" y="4317840"/>
            <a:ext cx="168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Печ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91200" y="4749840"/>
            <a:ext cx="189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Желуд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359600" y="5397480"/>
            <a:ext cx="22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Кишеч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851280" y="1773360"/>
            <a:ext cx="1944720" cy="352728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   </a:t>
            </a: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Строение тела чело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3634920" y="1484280"/>
            <a:ext cx="792360" cy="432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32360" y="1484280"/>
            <a:ext cx="719280" cy="50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58920" y="1557360"/>
            <a:ext cx="2305080" cy="647640"/>
          </a:xfrm>
          <a:prstGeom prst="roundRect">
            <a:avLst>
              <a:gd name="adj" fmla="val 16667"/>
            </a:avLst>
          </a:prstGeom>
          <a:solidFill>
            <a:srgbClr val="6dffc4"/>
          </a:solidFill>
          <a:ln w="38160">
            <a:solidFill>
              <a:srgbClr val="00c4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87280" y="1557360"/>
            <a:ext cx="22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нешн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724360" y="1557360"/>
            <a:ext cx="2519640" cy="6476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646600" y="1557360"/>
            <a:ext cx="256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нутренн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42920" y="3573360"/>
            <a:ext cx="439272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Го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Ше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Туловищ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mic Sans MS"/>
              </a:rPr>
              <a:t>(грудь, живот, спи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Ру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Но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58920" y="2708280"/>
            <a:ext cx="2376360" cy="576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246680" y="2708280"/>
            <a:ext cx="233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Части те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340000" y="2205000"/>
            <a:ext cx="0" cy="503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948360" y="2205000"/>
            <a:ext cx="0" cy="503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796000" y="2708280"/>
            <a:ext cx="2376360" cy="576360"/>
          </a:xfrm>
          <a:prstGeom prst="roundRect">
            <a:avLst>
              <a:gd name="adj" fmla="val 16667"/>
            </a:avLst>
          </a:prstGeom>
          <a:solidFill>
            <a:srgbClr val="75ffff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111000" y="2708280"/>
            <a:ext cx="173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Орга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51640" y="3573360"/>
            <a:ext cx="439236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Головной моз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Лёг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Серд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Печ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Желуд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Кишеч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30T12:20:41Z</dcterms:created>
  <dc:creator>мама</dc:creator>
  <dc:description/>
  <dc:language>en-US</dc:language>
  <cp:lastModifiedBy>мама</cp:lastModifiedBy>
  <dcterms:modified xsi:type="dcterms:W3CDTF">2011-01-03T13:18:49Z</dcterms:modified>
  <cp:revision>15</cp:revision>
  <dc:subject/>
  <dc:title>Строение  тела человека</dc:title>
</cp:coreProperties>
</file>